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dt" idx="2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ftr" idx="2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 type="sldNum" idx="2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AF0D-D865-44F7-8EB4-DC3B5D839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実習時、実際の学生作らせてい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絵のうち最初の臨床経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AAE9-C68D-4902-9B83-1C43A15C301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身体所見のまとめ、全身像で表現させ、また内服剤を使った上での現症を作成してもらっ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多くの投薬がされて、今があれば大事な情報なのでそう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8B19-4E22-4107-80DB-1A03A77F109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肝臓で入院した患者の肝臓の状態を、今までの治療歴を踏ま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にまとめ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のよ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をつくることで、患者の全体像がわかり経過がわかります。この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を使い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判断の可否、今の状況、今後の問題点などを討議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D77E-7E1F-4072-A94D-9811692258D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5FC16-B659-487D-9E96-5EBFC612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D4542-9267-4837-BA62-1CBF782E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6301CB-3875-4A0D-B672-DA80A12C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F0150D-9DB6-4062-907C-465E639B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1B08F-33D4-4118-BDBA-1007C2DF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B2B92E-F5C8-4B93-A26F-6E74D4E4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8585A9-29C7-4B63-ADFC-3B9CD9B4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2C27E-3E4B-45FB-908E-C8CFFFCA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2C0D1D-2031-4CBA-812D-7CD45333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83F42A-257A-4AD6-A68B-5C32925B5A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383378-A96F-4BB9-89F4-CFC12CB5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8AA2F1-C13E-4AB9-9B4F-7FF2F677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3E90CC-4022-458C-A681-4A88DB9C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76188C-B636-49F0-814A-60C11D46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D84835-34B8-43F6-8AFD-1714DD1C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DD86CD-0C97-4883-83C4-FF996A48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3FF556-0611-4D09-9936-A4E9B585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5A1715-F8BC-41C5-8EFE-06CFFAFE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EB310F-AF9F-48DF-A258-CCF40A74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0E6179-3146-45B6-85B5-B5F99B83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011900-0414-4461-AE81-345E6874DF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24813-0861-474B-9A0F-1A630B1BC4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1A64C-1A57-46A8-B16D-563E2627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8B52F-B11C-4479-94D6-BBAB1F9A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CAACA-E027-4823-AE17-60CEC33C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3AB46-AD17-41B6-8456-98DFED2B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AC55B-6C60-475B-91C1-550B4013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4AB19-623C-49AC-82FF-C8C67AAF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D41D1-56AD-43C2-9124-8EED2961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55F9E-F418-4E5A-A4AB-5BE21443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8BE5B-01A0-4888-B43A-F117C117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76193-7A1D-4EB2-987A-E0E8FAAE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3891B-8476-4AC9-A428-D6A8A70E76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FC7F8-7C01-48F8-A043-A39E6DA3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AC55E-6F64-4695-A36A-05E7193B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2EB7D-3E01-4FF5-A1CB-BFE55F26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CEDFD-11F3-4AF2-9ACE-51659BF0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6343A-97D0-42C2-81E9-E2ABE804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FE9E6-F5A3-4108-B742-C5DCE4F6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AA853-DE1C-453B-AEAB-D86FA5FA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35856-EEF0-44E7-A176-BB44E23F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B6022-AFAD-4734-95AA-17E1B86A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78A32-182E-4D43-9FE2-1CA064FE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A74E2-17FC-4CAC-9C9A-342336C0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BA6D2-FBBD-442E-9397-2713EA9E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7D47C5-FDB8-42B3-A899-B843C039D6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7AB7BC-5F02-488F-BD0F-6E95FCA2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C70B70-1505-48F4-A611-2980A3B4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F329AF-D660-4BAE-920C-556A43B6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186709-8B9E-4B84-81EF-5F874006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E0930B-86AE-47DA-A3E4-2BE45AEA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E63C03-A31B-462E-B14D-863CBA0E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8D52F3-748E-47FD-AEC0-5B0F9AD3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D47DAF-FBC0-476C-803F-45C77F7A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82B8CF-3E60-4830-8AFF-195CEBCF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613C82-C2DA-4879-BF6D-EBB5838F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DB5615-8D56-4FB8-BF7F-380297DAE1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9E02-477B-4BCB-AC57-AD7C1C199D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565F5-A302-4D9A-8365-3B1676DB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0C2D8-22EE-4E3E-B64A-66F18FEA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1B046-E349-4E12-A745-ACF49B22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CF6C8-C96F-4005-B437-8AAEC92E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7E873-9C26-4E24-A2D3-C821670D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6DE61-DBE8-495C-98F4-10DD29A0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BF30A-DBB6-4984-B5AC-29C70D77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04CDE-DF87-442F-8A99-634F2559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3D5FE-200A-4E41-9526-D640F629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33822-CD63-4259-963B-C9C4F402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662CD-E13D-427A-BD37-A976CB4869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A35A9-591D-472D-9B48-B13B1639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630FC-6725-4CA1-92F7-54E0E635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A151D-3259-49D7-AC91-BD7701DA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1E37C-7487-4EBE-8817-6BDF0FB7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A4E5F-FC44-4B16-9F1B-2E1EAB9B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7AFF7-C9F4-440B-B572-5CA26E0A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4E03C-22F0-4140-8F54-70F98043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6BE31-6F09-4EDB-A5CC-D81069FC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40006-84D3-48DB-8DA1-8508E7E0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28A54-1E56-454A-8559-CFA53463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E4854-FC64-4C94-A1F8-BA592DE4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89A7F-0C96-41CF-A0DD-92B14A65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B1C04-1633-4210-8643-F9017435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9B56B-7E16-4E4D-90AC-DFF4736F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CD20F-8F95-4271-8503-DBB7336A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9E4AD-33C8-4E70-A90B-FEC6B823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59E86-B3ED-4A8C-937B-5C23E921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3C154-02C2-4C5F-A00E-D7926D64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412B3-7286-4AD9-ADA2-46E7A7A4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F21F2-3FC4-48A5-AA6E-6077726A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27C28-F410-4CA8-BC3A-7F1C9007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32EFC-9ACD-4EBD-A435-ECFF2635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CD3E8-B9AB-4C33-A9A3-7EFB32D1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C1316-7A76-4172-93DF-F6AF5C6C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3C4233-7941-4415-A8B8-E5106639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272C6-A919-444D-B3C9-927DB17B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51403B-2BAC-4417-8107-73BFDFE6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DA1557-24B4-490E-8E35-73341325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C024EB-3A56-4252-A40C-039E4010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B53833-DDFC-4B45-B7C9-14D3E4C0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FC75DF-005D-4C90-82A5-D64B89C7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BC774D-24C7-493F-8E41-3A4C616B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6B282E-5C73-4B68-85DD-D78AF001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0BC23D-98F8-4ADD-A0DA-240F45E6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535E85-8C79-4437-BFB9-C094F11D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BDC960-708A-4EEA-AEBC-E7CD3E03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4B9671-2647-479A-82DA-2C5FD7A0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4FEDA-1AC4-4322-8601-CDCCEA3D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B13C3A-F325-4E05-9C16-120BE303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9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28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29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30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995A-8E41-4AB2-A393-1C2B9ED1A87C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7209-A910-472B-8CA0-6F7B620AD832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77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78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79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80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2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3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84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6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6EFF-4082-4CDC-A12D-9D307786B0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2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2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2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3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laceHolder 1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2EAD-09F7-42CB-9D6D-10A9006D65BB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5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7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64AE-50E7-44D1-9458-9861710D68EF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0727-14D5-455A-9DC1-BFD86908DB4F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9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0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1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9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9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0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44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45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46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8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50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90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91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92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93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5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97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B275-A9F1-4998-AF3E-081E13CEAB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39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240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241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24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24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8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BA17-A5C0-439F-8D4B-5662B82001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CF07-FC08-4044-8D44-A28F5F2B36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7" name="PlaceHolder 1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4B91-CCAE-4068-AD42-6F700EDDB5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PlaceHolder 1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A1CA-94DF-4E5C-9499-26BAD59CE371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63560" y="2060280"/>
            <a:ext cx="7616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3</a:t>
            </a: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歳 女性 治療が難航す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CC</a:t>
            </a: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の一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角丸四角形吹き出し 5"/>
          <p:cNvSpPr/>
          <p:nvPr/>
        </p:nvSpPr>
        <p:spPr>
          <a:xfrm>
            <a:off x="8043840" y="1424160"/>
            <a:ext cx="1027080" cy="439560"/>
          </a:xfrm>
          <a:prstGeom prst="wedgeRoundRectCallout">
            <a:avLst>
              <a:gd name="adj1" fmla="val -74490"/>
              <a:gd name="adj2" fmla="val 55921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hild-pugh: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角丸四角形吹き出し 5"/>
          <p:cNvSpPr/>
          <p:nvPr/>
        </p:nvSpPr>
        <p:spPr>
          <a:xfrm>
            <a:off x="6143760" y="1432080"/>
            <a:ext cx="1028520" cy="439560"/>
          </a:xfrm>
          <a:prstGeom prst="wedgeRoundRectCallout">
            <a:avLst>
              <a:gd name="adj1" fmla="val 76074"/>
              <a:gd name="adj2" fmla="val 5779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hild-pugh: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角丸四角形吹き出し 5"/>
          <p:cNvSpPr/>
          <p:nvPr/>
        </p:nvSpPr>
        <p:spPr>
          <a:xfrm>
            <a:off x="4341960" y="1427040"/>
            <a:ext cx="1027080" cy="438120"/>
          </a:xfrm>
          <a:prstGeom prst="wedgeRoundRectCallout">
            <a:avLst>
              <a:gd name="adj1" fmla="val 90490"/>
              <a:gd name="adj2" fmla="val 59671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hild-pugh: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グループ化 29"/>
          <p:cNvGrpSpPr/>
          <p:nvPr/>
        </p:nvGrpSpPr>
        <p:grpSpPr>
          <a:xfrm>
            <a:off x="231840" y="1384200"/>
            <a:ext cx="8592840" cy="4729680"/>
            <a:chOff x="231840" y="1384200"/>
            <a:chExt cx="8592840" cy="4729680"/>
          </a:xfrm>
        </p:grpSpPr>
        <p:sp>
          <p:nvSpPr>
            <p:cNvPr id="637" name="テキスト ボックス 50"/>
            <p:cNvSpPr/>
            <p:nvPr/>
          </p:nvSpPr>
          <p:spPr>
            <a:xfrm>
              <a:off x="231840" y="2166840"/>
              <a:ext cx="4610160" cy="394704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テキスト ボックス 60"/>
            <p:cNvSpPr/>
            <p:nvPr/>
          </p:nvSpPr>
          <p:spPr>
            <a:xfrm>
              <a:off x="4889520" y="2085840"/>
              <a:ext cx="3906720" cy="3943080"/>
            </a:xfrm>
            <a:custGeom>
              <a:avLst/>
              <a:gdLst>
                <a:gd name="textAreaLeft" fmla="*/ 190440 w 3906720"/>
                <a:gd name="textAreaRight" fmla="*/ 3716280 w 3906720"/>
                <a:gd name="textAreaTop" fmla="*/ 190440 h 3943080"/>
                <a:gd name="textAreaBottom" fmla="*/ 3752640 h 3943080"/>
              </a:gdLst>
              <a:ahLst/>
              <a:rect l="textAreaLeft" t="textAreaTop" r="textAreaRight" b="textAreaBottom"/>
              <a:pathLst>
                <a:path w="21600" h="21801">
                  <a:moveTo>
                    <a:pt x="3600" y="0"/>
                  </a:moveTo>
                  <a:arcTo wR="3600" hR="3600" stAng="16200000" swAng="-5400000"/>
                  <a:lnTo>
                    <a:pt x="0" y="18201"/>
                  </a:lnTo>
                  <a:arcTo wR="3600" hR="3600" stAng="10800000" swAng="-5400000"/>
                  <a:lnTo>
                    <a:pt x="18000" y="218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テキスト ボックス 14"/>
            <p:cNvSpPr/>
            <p:nvPr/>
          </p:nvSpPr>
          <p:spPr>
            <a:xfrm>
              <a:off x="1972080" y="138420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2019</a:t>
              </a:r>
              <a:r>
                <a:rPr b="0" lang="ja-JP" sz="1600" spc="-1" strike="noStrike">
                  <a:solidFill>
                    <a:srgbClr val="ff0000"/>
                  </a:solidFill>
                  <a:latin typeface="Arial"/>
                </a:rPr>
                <a:t>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テキスト ボックス 26"/>
            <p:cNvSpPr/>
            <p:nvPr/>
          </p:nvSpPr>
          <p:spPr>
            <a:xfrm>
              <a:off x="1985400" y="1608480"/>
              <a:ext cx="56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直線矢印コネクタ 4"/>
            <p:cNvCxnSpPr/>
            <p:nvPr/>
          </p:nvCxnSpPr>
          <p:spPr>
            <a:xfrm>
              <a:off x="328320" y="1976040"/>
              <a:ext cx="8496720" cy="108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642" name="角丸四角形 9"/>
            <p:cNvSpPr/>
            <p:nvPr/>
          </p:nvSpPr>
          <p:spPr>
            <a:xfrm>
              <a:off x="615960" y="2207880"/>
              <a:ext cx="2313000" cy="942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ＭＳ Ｐゴシック"/>
                </a:rPr>
                <a:t>HBV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キャリアとして新潟市民病院受診。肝硬変に対してエンテカビル内服を開始した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直線コネクタ 46"/>
          <p:cNvSpPr/>
          <p:nvPr/>
        </p:nvSpPr>
        <p:spPr>
          <a:xfrm>
            <a:off x="2021040" y="1960560"/>
            <a:ext cx="0" cy="2476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7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現病歴　既往歴　治療介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テキスト ボックス 3"/>
          <p:cNvSpPr/>
          <p:nvPr/>
        </p:nvSpPr>
        <p:spPr>
          <a:xfrm>
            <a:off x="762840" y="905040"/>
            <a:ext cx="3109320" cy="398880"/>
          </a:xfrm>
          <a:prstGeom prst="rect">
            <a:avLst/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歳 女性 治療が難航す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CC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の一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角丸四角形 47"/>
          <p:cNvSpPr/>
          <p:nvPr/>
        </p:nvSpPr>
        <p:spPr>
          <a:xfrm>
            <a:off x="625320" y="3489480"/>
            <a:ext cx="2337120" cy="1339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佐渡病院でフォローしていたが、高度肥満と造影剤アレルギーにより画像評価が難渋してい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バラクルードからベムルディ（テノボビル）に薬剤を変更し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テキスト ボックス 14"/>
          <p:cNvSpPr/>
          <p:nvPr/>
        </p:nvSpPr>
        <p:spPr>
          <a:xfrm>
            <a:off x="436680" y="14000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16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テキスト ボックス 14"/>
          <p:cNvSpPr/>
          <p:nvPr/>
        </p:nvSpPr>
        <p:spPr>
          <a:xfrm>
            <a:off x="3447720" y="14079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20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テキスト ボックス 26"/>
          <p:cNvSpPr/>
          <p:nvPr/>
        </p:nvSpPr>
        <p:spPr>
          <a:xfrm>
            <a:off x="3398760" y="1619280"/>
            <a:ext cx="90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テキスト ボックス 26"/>
          <p:cNvSpPr/>
          <p:nvPr/>
        </p:nvSpPr>
        <p:spPr>
          <a:xfrm>
            <a:off x="5272200" y="1616040"/>
            <a:ext cx="108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テキスト ボックス 14"/>
          <p:cNvSpPr/>
          <p:nvPr/>
        </p:nvSpPr>
        <p:spPr>
          <a:xfrm>
            <a:off x="7236000" y="13953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テキスト ボックス 26"/>
          <p:cNvSpPr/>
          <p:nvPr/>
        </p:nvSpPr>
        <p:spPr>
          <a:xfrm>
            <a:off x="7167600" y="16160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線コネクタ 69"/>
          <p:cNvSpPr/>
          <p:nvPr/>
        </p:nvSpPr>
        <p:spPr>
          <a:xfrm flipH="1">
            <a:off x="7620120" y="1998720"/>
            <a:ext cx="2880" cy="8604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線コネクタ 49"/>
          <p:cNvSpPr/>
          <p:nvPr/>
        </p:nvSpPr>
        <p:spPr>
          <a:xfrm flipH="1">
            <a:off x="7921800" y="1979640"/>
            <a:ext cx="33120" cy="12384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角丸四角形 47"/>
          <p:cNvSpPr/>
          <p:nvPr/>
        </p:nvSpPr>
        <p:spPr>
          <a:xfrm>
            <a:off x="6840360" y="3224160"/>
            <a:ext cx="1793880" cy="60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残存病変に対して当院放射線科で治療を行う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角丸四角形 47"/>
          <p:cNvSpPr/>
          <p:nvPr/>
        </p:nvSpPr>
        <p:spPr>
          <a:xfrm>
            <a:off x="6821640" y="2244600"/>
            <a:ext cx="1793880" cy="82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PHAG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て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８、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３に造影される腫瘤を確認し、同病変に対して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TACE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を施行し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線コネクタ 52"/>
          <p:cNvSpPr/>
          <p:nvPr/>
        </p:nvSpPr>
        <p:spPr>
          <a:xfrm flipH="1">
            <a:off x="5823000" y="1979640"/>
            <a:ext cx="17280" cy="11541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角丸四角形 47"/>
          <p:cNvSpPr/>
          <p:nvPr/>
        </p:nvSpPr>
        <p:spPr>
          <a:xfrm>
            <a:off x="4938840" y="2697120"/>
            <a:ext cx="1793880" cy="11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8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病変に対して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TACE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を施行した。外側区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3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病変に対しては、カテーテルが先進せず処置を行わなかっ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直線コネクタ 54"/>
          <p:cNvSpPr/>
          <p:nvPr/>
        </p:nvSpPr>
        <p:spPr>
          <a:xfrm flipH="1">
            <a:off x="3911760" y="1973160"/>
            <a:ext cx="17280" cy="11541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角丸四角形 47"/>
          <p:cNvSpPr/>
          <p:nvPr/>
        </p:nvSpPr>
        <p:spPr>
          <a:xfrm>
            <a:off x="3048120" y="2166840"/>
            <a:ext cx="1793880" cy="168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血液検査にて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PIVKA-Ⅱ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が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43.2mAU/mL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、その後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87.6AU/mL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と上昇傾向にあったため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Dynamic C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を撮影し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8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2.5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ｃｍ、外側区に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.5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㎝の早期濃染を伴う腫瘤が指摘され、ＨＣＣが疑われ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直線コネクタ 48"/>
          <p:cNvSpPr/>
          <p:nvPr/>
        </p:nvSpPr>
        <p:spPr>
          <a:xfrm>
            <a:off x="2021040" y="3143160"/>
            <a:ext cx="0" cy="346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角丸四角形 35"/>
          <p:cNvSpPr/>
          <p:nvPr/>
        </p:nvSpPr>
        <p:spPr>
          <a:xfrm>
            <a:off x="682560" y="5097600"/>
            <a:ext cx="1913040" cy="65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入院時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身長：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49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㎝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、体重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05.9k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BMI: 47.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角丸四角形 35"/>
          <p:cNvSpPr/>
          <p:nvPr/>
        </p:nvSpPr>
        <p:spPr>
          <a:xfrm>
            <a:off x="5280120" y="2170080"/>
            <a:ext cx="107928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当科入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グループ化 2"/>
          <p:cNvGrpSpPr/>
          <p:nvPr/>
        </p:nvGrpSpPr>
        <p:grpSpPr>
          <a:xfrm>
            <a:off x="3314880" y="3959280"/>
            <a:ext cx="2566800" cy="2279520"/>
            <a:chOff x="3314880" y="3959280"/>
            <a:chExt cx="2566800" cy="2279520"/>
          </a:xfrm>
        </p:grpSpPr>
        <p:pic>
          <p:nvPicPr>
            <p:cNvPr id="665" name="図 5" descr=""/>
            <p:cNvPicPr/>
            <p:nvPr/>
          </p:nvPicPr>
          <p:blipFill>
            <a:blip r:embed="rId1"/>
            <a:srcRect l="30" t="14111" r="-25" b="14640"/>
            <a:stretch/>
          </p:blipFill>
          <p:spPr>
            <a:xfrm>
              <a:off x="3314880" y="3959280"/>
              <a:ext cx="2566800" cy="22795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66" name="直線矢印コネクタ 37"/>
            <p:cNvCxnSpPr/>
            <p:nvPr/>
          </p:nvCxnSpPr>
          <p:spPr>
            <a:xfrm flipV="1">
              <a:off x="3911400" y="5385960"/>
              <a:ext cx="1080" cy="2037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667" name="グループ化 5"/>
          <p:cNvGrpSpPr/>
          <p:nvPr/>
        </p:nvGrpSpPr>
        <p:grpSpPr>
          <a:xfrm>
            <a:off x="6084720" y="3959280"/>
            <a:ext cx="2519640" cy="2278080"/>
            <a:chOff x="6084720" y="3959280"/>
            <a:chExt cx="2519640" cy="2278080"/>
          </a:xfrm>
        </p:grpSpPr>
        <p:pic>
          <p:nvPicPr>
            <p:cNvPr id="668" name="図 8" descr="写真, 本, テーブル, 食品 が含まれている画像&#10;&#10;自動的に生成された説明"/>
            <p:cNvPicPr/>
            <p:nvPr/>
          </p:nvPicPr>
          <p:blipFill>
            <a:blip r:embed="rId2"/>
            <a:srcRect l="0" t="13369" r="0" b="14203"/>
            <a:stretch/>
          </p:blipFill>
          <p:spPr>
            <a:xfrm>
              <a:off x="6084720" y="3959280"/>
              <a:ext cx="2519640" cy="2278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69" name="直線矢印コネクタ 41"/>
            <p:cNvCxnSpPr/>
            <p:nvPr/>
          </p:nvCxnSpPr>
          <p:spPr>
            <a:xfrm flipV="1">
              <a:off x="7524360" y="4828680"/>
              <a:ext cx="1080" cy="2037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3" descr="C:\Users\p039eb\Desktop\ポリクリ\全身図：前.png"/>
          <p:cNvPicPr/>
          <p:nvPr/>
        </p:nvPicPr>
        <p:blipFill>
          <a:blip r:embed="rId1"/>
          <a:stretch/>
        </p:blipFill>
        <p:spPr>
          <a:xfrm>
            <a:off x="1467000" y="858960"/>
            <a:ext cx="2412720" cy="53067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3760" y="38160"/>
            <a:ext cx="9144000" cy="62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身体所見の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テキスト ボックス 4"/>
          <p:cNvSpPr/>
          <p:nvPr/>
        </p:nvSpPr>
        <p:spPr>
          <a:xfrm>
            <a:off x="5057640" y="635040"/>
            <a:ext cx="4032360" cy="432324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323240"/>
              <a:gd name="textAreaBottom" fmla="*/ 4126680 h 4323240"/>
            </a:gdLst>
            <a:ahLst/>
            <a:rect l="textAreaLeft" t="textAreaTop" r="textAreaRight" b="textAreaBottom"/>
            <a:pathLst>
              <a:path w="21600" h="23158">
                <a:moveTo>
                  <a:pt x="3600" y="0"/>
                </a:moveTo>
                <a:arcTo wR="3600" hR="3600" stAng="16200000" swAng="-5400000"/>
                <a:lnTo>
                  <a:pt x="0" y="19558"/>
                </a:lnTo>
                <a:arcTo wR="3600" hR="3600" stAng="10800000" swAng="-5400000"/>
                <a:lnTo>
                  <a:pt x="18000" y="23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入院時所見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KT: 36.7℃, SpO2: 96(room 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生活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飲酒歴：なし、喫煙歴：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家族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特記事項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既往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月に強直性脊椎炎、肝硬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20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月に肝細胞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輸血歴：なし、刺青：なし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20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月に当科にて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ACE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施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アレルギー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造影剤アレルギー（詳細不明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内服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テノボビル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25)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　１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分岐鎖アミノ酸製剤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4.15) 3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防風通聖散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2.5)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３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アミノレバン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50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角丸四角形吹き出し 5"/>
          <p:cNvSpPr/>
          <p:nvPr/>
        </p:nvSpPr>
        <p:spPr>
          <a:xfrm>
            <a:off x="131760" y="896760"/>
            <a:ext cx="1727280" cy="935280"/>
          </a:xfrm>
          <a:prstGeom prst="wedgeRoundRectCallout">
            <a:avLst>
              <a:gd name="adj1" fmla="val 80078"/>
              <a:gd name="adj2" fmla="val -361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意識清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リンパ節腫脹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眼瞼結膜：貧血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眼球結膜：黄染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角丸四角形吹き出し 11"/>
          <p:cNvSpPr/>
          <p:nvPr/>
        </p:nvSpPr>
        <p:spPr>
          <a:xfrm>
            <a:off x="112680" y="1917720"/>
            <a:ext cx="2413080" cy="1224000"/>
          </a:xfrm>
          <a:prstGeom prst="wedgeRoundRectCallout">
            <a:avLst>
              <a:gd name="adj1" fmla="val 64898"/>
              <a:gd name="adj2" fmla="val -6689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HR: 86, BP: 100/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Heart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：心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urm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Lung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：呼吸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 r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角丸四角形吹き出し 12"/>
          <p:cNvSpPr/>
          <p:nvPr/>
        </p:nvSpPr>
        <p:spPr>
          <a:xfrm>
            <a:off x="3259080" y="1982880"/>
            <a:ext cx="1656000" cy="1657080"/>
          </a:xfrm>
          <a:prstGeom prst="wedgeRoundRectCallout">
            <a:avLst>
              <a:gd name="adj1" fmla="val -72638"/>
              <a:gd name="adj2" fmla="val 17754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腹部：平坦、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圧痛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腸蠕動音正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血管雑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脾・腎触知しない腫瘤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クモ状血管腫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角丸四角形吹き出し 27"/>
          <p:cNvSpPr/>
          <p:nvPr/>
        </p:nvSpPr>
        <p:spPr>
          <a:xfrm>
            <a:off x="3330720" y="5086440"/>
            <a:ext cx="1152360" cy="431640"/>
          </a:xfrm>
          <a:prstGeom prst="wedgeRoundRectCallout">
            <a:avLst>
              <a:gd name="adj1" fmla="val -56680"/>
              <a:gd name="adj2" fmla="val 85592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下腿浮腫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角丸四角形吹き出し 16"/>
          <p:cNvSpPr/>
          <p:nvPr/>
        </p:nvSpPr>
        <p:spPr>
          <a:xfrm>
            <a:off x="112680" y="3303720"/>
            <a:ext cx="2087640" cy="1606320"/>
          </a:xfrm>
          <a:prstGeom prst="wedgeRoundRectCallout">
            <a:avLst>
              <a:gd name="adj1" fmla="val 68981"/>
              <a:gd name="adj2" fmla="val -63004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肝：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黄疸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、腹水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Child-Pugh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分類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A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点）脳症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腹水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総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Bil 1.8mg/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Alb 3.2g/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角丸四角形吹き出し 17"/>
          <p:cNvSpPr/>
          <p:nvPr/>
        </p:nvSpPr>
        <p:spPr>
          <a:xfrm>
            <a:off x="3583080" y="3997440"/>
            <a:ext cx="1152360" cy="431640"/>
          </a:xfrm>
          <a:prstGeom prst="wedgeRoundRectCallout">
            <a:avLst>
              <a:gd name="adj1" fmla="val -41166"/>
              <a:gd name="adj2" fmla="val -874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手掌紅斑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テキスト ボックス 18"/>
          <p:cNvSpPr/>
          <p:nvPr/>
        </p:nvSpPr>
        <p:spPr>
          <a:xfrm>
            <a:off x="112680" y="5072040"/>
            <a:ext cx="2376360" cy="12848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検査所見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 本文"/>
                <a:ea typeface="游明朝"/>
              </a:rPr>
              <a:t>PT% 74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 本文"/>
                <a:ea typeface="游明朝"/>
              </a:rPr>
              <a:t>％ 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 本文"/>
                <a:ea typeface="游明朝"/>
              </a:rPr>
              <a:t>, Alb 3.2g/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 本文"/>
                <a:ea typeface="游明朝"/>
              </a:rPr>
              <a:t>AST 55 U/L, ALT 47 U/L, LD 215 U/L, ALP 121 U/L, γ-GTP 23 U/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テキスト ボックス 19"/>
          <p:cNvSpPr/>
          <p:nvPr/>
        </p:nvSpPr>
        <p:spPr>
          <a:xfrm>
            <a:off x="5070600" y="5079960"/>
            <a:ext cx="4020840" cy="12848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腫瘍マーカー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※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020/11/26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020/12/21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021/2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FP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(ng/m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FP-L3%: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＜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0.5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＜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0.5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＜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0.5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FP-L1%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： ＞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99.5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＞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99.5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＞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99.5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IVKAⅡ: 56.1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73.3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1.1(mAU/m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角丸四角形吹き出し 11"/>
          <p:cNvSpPr/>
          <p:nvPr/>
        </p:nvSpPr>
        <p:spPr>
          <a:xfrm>
            <a:off x="3479760" y="863640"/>
            <a:ext cx="1403280" cy="1058760"/>
          </a:xfrm>
          <a:prstGeom prst="wedgeRoundRectCallout">
            <a:avLst>
              <a:gd name="adj1" fmla="val 50217"/>
              <a:gd name="adj2" fmla="val -10268"/>
              <a:gd name="adj3" fmla="val 16667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身長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149cm,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体重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05.9kg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ＭＳ Ｐゴシック"/>
              </a:rPr>
              <a:t>BMI: 47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図 3" descr="写真, 猫, 横たわる, 男 が含まれている画像&#10;&#10;自動的に生成された説明"/>
          <p:cNvPicPr/>
          <p:nvPr/>
        </p:nvPicPr>
        <p:blipFill>
          <a:blip r:embed="rId1"/>
          <a:srcRect l="0" t="4151" r="0" b="28394"/>
          <a:stretch/>
        </p:blipFill>
        <p:spPr>
          <a:xfrm>
            <a:off x="2786040" y="1069920"/>
            <a:ext cx="6040440" cy="3141720"/>
          </a:xfrm>
          <a:prstGeom prst="rect">
            <a:avLst/>
          </a:prstGeom>
          <a:ln w="0">
            <a:noFill/>
          </a:ln>
        </p:spPr>
      </p:pic>
      <p:grpSp>
        <p:nvGrpSpPr>
          <p:cNvPr id="683" name="グループ化 26"/>
          <p:cNvGrpSpPr/>
          <p:nvPr/>
        </p:nvGrpSpPr>
        <p:grpSpPr>
          <a:xfrm>
            <a:off x="368280" y="1028880"/>
            <a:ext cx="2001960" cy="3068280"/>
            <a:chOff x="368280" y="1028880"/>
            <a:chExt cx="2001960" cy="3068280"/>
          </a:xfrm>
        </p:grpSpPr>
        <p:sp>
          <p:nvSpPr>
            <p:cNvPr id="684" name="テキスト ボックス 17"/>
            <p:cNvSpPr/>
            <p:nvPr/>
          </p:nvSpPr>
          <p:spPr>
            <a:xfrm>
              <a:off x="371160" y="3284640"/>
              <a:ext cx="1984680" cy="81252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2</a:t>
              </a:r>
              <a:r>
                <a:rPr b="0" lang="ja-JP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8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病変に対し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CE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を施行した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テキスト ボックス 16"/>
            <p:cNvSpPr/>
            <p:nvPr/>
          </p:nvSpPr>
          <p:spPr>
            <a:xfrm>
              <a:off x="385560" y="2232000"/>
              <a:ext cx="1984680" cy="81252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11</a:t>
              </a:r>
              <a:r>
                <a:rPr b="0" lang="ja-JP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月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26</a:t>
              </a:r>
              <a:r>
                <a:rPr b="0" lang="ja-JP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8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病変のみ当科に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CE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を施行した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テキスト ボックス 11"/>
            <p:cNvSpPr/>
            <p:nvPr/>
          </p:nvSpPr>
          <p:spPr>
            <a:xfrm>
              <a:off x="368280" y="1028880"/>
              <a:ext cx="1984680" cy="1048680"/>
            </a:xfrm>
            <a:prstGeom prst="roundRect">
              <a:avLst>
                <a:gd name="adj" fmla="val 16667"/>
              </a:avLst>
            </a:prstGeom>
            <a:solidFill>
              <a:srgbClr val="dce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2021</a:t>
              </a:r>
              <a:r>
                <a:rPr b="0" lang="ja-JP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年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2</a:t>
              </a:r>
              <a:r>
                <a:rPr b="0" lang="ja-JP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HC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8</a:t>
              </a: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：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2.5</a:t>
              </a: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外側区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(S3)</a:t>
              </a: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：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1.5</a:t>
              </a: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角丸四角形 27"/>
          <p:cNvSpPr/>
          <p:nvPr/>
        </p:nvSpPr>
        <p:spPr>
          <a:xfrm>
            <a:off x="108000" y="4387680"/>
            <a:ext cx="5467320" cy="187200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</a:rPr>
              <a:t>血管造影所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HAG(7.5/1.5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施行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8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3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造影される腫瘤を認め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TAP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確認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8,S3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早期濃染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ash out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れる所見を認め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HAG(5/1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施行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3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濃染を確認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3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まで進め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3AG(2.8/0/7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確認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pi 10mg+DC Beads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投与し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8AG(4/1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施行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8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の濃染を確認した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8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より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T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造影を行い、終了し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4080" y="46080"/>
            <a:ext cx="9144000" cy="79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治療経過（臨床実習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I</a:t>
            </a: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　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5</a:t>
            </a: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年生のまとめ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角丸四角形 27"/>
          <p:cNvSpPr/>
          <p:nvPr/>
        </p:nvSpPr>
        <p:spPr>
          <a:xfrm>
            <a:off x="5796000" y="4675320"/>
            <a:ext cx="3125880" cy="129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</a:rPr>
              <a:t>今後の治療方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放射線科にて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BRT 35Gy/5fr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などの通常よりも低めの線量にて治療を検討し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0" name="直線矢印コネクタ 2"/>
          <p:cNvCxnSpPr/>
          <p:nvPr/>
        </p:nvCxnSpPr>
        <p:spPr>
          <a:xfrm flipV="1">
            <a:off x="4284360" y="1823400"/>
            <a:ext cx="1080" cy="261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91" name="直線矢印コネクタ 13"/>
          <p:cNvCxnSpPr/>
          <p:nvPr/>
        </p:nvCxnSpPr>
        <p:spPr>
          <a:xfrm flipV="1">
            <a:off x="6659280" y="2918880"/>
            <a:ext cx="1080" cy="261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692" name="グループ化 8"/>
          <p:cNvGrpSpPr/>
          <p:nvPr/>
        </p:nvGrpSpPr>
        <p:grpSpPr>
          <a:xfrm>
            <a:off x="2519280" y="979560"/>
            <a:ext cx="3737160" cy="3279600"/>
            <a:chOff x="2519280" y="979560"/>
            <a:chExt cx="3737160" cy="3279600"/>
          </a:xfrm>
        </p:grpSpPr>
        <p:pic>
          <p:nvPicPr>
            <p:cNvPr id="693" name="図 6" descr="写真, 座る, 古い, 立つ が含まれている画像&#10;&#10;自動的に生成された説明"/>
            <p:cNvPicPr/>
            <p:nvPr/>
          </p:nvPicPr>
          <p:blipFill>
            <a:blip r:embed="rId2"/>
            <a:srcRect l="3505" t="1703" r="26756" b="37477"/>
            <a:stretch/>
          </p:blipFill>
          <p:spPr>
            <a:xfrm>
              <a:off x="2519280" y="979560"/>
              <a:ext cx="3737160" cy="32796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94" name="直線矢印コネクタ 16"/>
            <p:cNvCxnSpPr/>
            <p:nvPr/>
          </p:nvCxnSpPr>
          <p:spPr>
            <a:xfrm flipV="1">
              <a:off x="3619080" y="2890440"/>
              <a:ext cx="1080" cy="3657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695" name="グループ化 6"/>
          <p:cNvGrpSpPr/>
          <p:nvPr/>
        </p:nvGrpSpPr>
        <p:grpSpPr>
          <a:xfrm>
            <a:off x="5608800" y="979560"/>
            <a:ext cx="3290760" cy="3244680"/>
            <a:chOff x="5608800" y="979560"/>
            <a:chExt cx="3290760" cy="3244680"/>
          </a:xfrm>
        </p:grpSpPr>
        <p:pic>
          <p:nvPicPr>
            <p:cNvPr id="696" name="図 5" descr="古い が含まれている画像&#10;&#10;自動的に生成された説明"/>
            <p:cNvPicPr/>
            <p:nvPr/>
          </p:nvPicPr>
          <p:blipFill>
            <a:blip r:embed="rId3"/>
            <a:srcRect l="12404" t="2752" r="12404" b="22699"/>
            <a:stretch/>
          </p:blipFill>
          <p:spPr>
            <a:xfrm>
              <a:off x="5608800" y="979560"/>
              <a:ext cx="3290760" cy="3244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97" name="直線矢印コネクタ 22"/>
            <p:cNvCxnSpPr/>
            <p:nvPr/>
          </p:nvCxnSpPr>
          <p:spPr>
            <a:xfrm flipV="1">
              <a:off x="7596000" y="2893680"/>
              <a:ext cx="1080" cy="3657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6:56:55Z</dcterms:created>
  <dc:creator>TERAI</dc:creator>
  <dc:description/>
  <dc:language>en-US</dc:language>
  <cp:lastModifiedBy>小山 究太郎</cp:lastModifiedBy>
  <cp:lastPrinted>2015-02-02T01:37:24Z</cp:lastPrinted>
  <dcterms:modified xsi:type="dcterms:W3CDTF">2021-06-15T07:20:48Z</dcterms:modified>
  <cp:revision>121</cp:revision>
  <dc:subject/>
  <dc:title>肝胆膵病態学総論</dc:title>
</cp:coreProperties>
</file>