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2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ftr" idx="2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 type="sldNum" idx="2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1AD8-55E4-4766-AA1D-18E755B0F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F846-96BB-47EB-AAB0-B458E7ED21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5923-6E59-49AC-BF10-DB37354118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よ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をつくることで、患者の全体像がわかり経過がわかります。この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を使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判断の可否、今の状況、今後の問題点などを討議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583D-5F1B-4460-9D96-101A590C6D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F1689-F01A-4568-8126-AC6DD443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94F8F-7B84-45BA-B1BA-EAA66672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7C504-FF93-4A2B-8B4A-C89AB043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746AA-CBA8-4921-9247-C838C1BA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95C72-DFA0-49BB-80BD-169EA641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2CB5A-2624-4171-883D-712BCCC4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416F8-E49B-40B5-9EA2-915CA5AF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68F15-62D7-4E10-ACEF-D2E6769C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969CC-1F13-438B-85CE-031D0394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97BB72-CA9A-41EA-B6BC-B5A6C62F22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889CCE-5CF5-4033-A87E-6FDB6EDF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4E3E57-8D9E-41B4-96C2-73CD0A5C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071FA1-448E-4113-BB3C-6D23C8EB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F72503-C6E6-4051-BD57-33B4E9E2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D1A30C-5B3C-4671-9B5A-41DDA87F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DF4E74-FC8E-4766-83FF-61731A3E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319617-DFC6-4BF5-BC9D-63E4B039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D9F577-06BF-46B7-8E66-EC0C4148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2A3CF0-E23F-48EC-8C84-DFC911F9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CEE9C7-BB33-4DF1-909F-09095BDA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DD6147-7FD9-4396-9D48-ABC45E604A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CC36F-32CB-4149-86C6-50B441F176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F6F7C-9007-432E-BA65-15939C24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7D746-B552-47F9-9BA5-32ABD27B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54754-07F3-4FF8-B903-BD4C1950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8552F-CB95-4E51-BF28-7C453F15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79895-E698-4378-8D17-58101EDD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4041F-E1C7-4218-9B81-BF373EF8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11416-75A1-4B14-92F4-5C0912D5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CB152-E786-4143-ABC9-1188BBC4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F6CC4-2FBF-4B22-B8A1-936B7EAD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163A9-541E-43E7-BD8B-2700BC07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24BDD-AA45-439B-9801-D15B190CEB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65C73-04FA-48E2-B75D-2E3F2B41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8875B-265B-44F3-A9D1-3C1D0791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6D38F-929D-49D7-AFED-597E5F34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A677A-A18D-4357-B605-F51543A4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B0DB4-51F2-4CC1-95B8-ED782EBD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A5200-C1CD-4AD1-B4E6-F61852F5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7EC8D-08FE-40AE-9DA2-78ECB10D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AAB09-2A16-4D93-BE58-7003D100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9C3C3-F63D-49B9-AA60-AE835507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86D0D-5588-4496-A68E-D8BECC34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C58F8-70CF-4D7F-B1A9-50EA9E7C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467AE-30AE-4B09-B2B9-D586F8AF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8DAAE-762F-4406-988A-7B73D89C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89E3E-D525-4B2D-BE96-6EBF98D6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188A8-72AC-46EC-A362-A184FF03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6577D-9ECF-49AF-9635-060C9305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1B6EC-0D16-4B01-9ADA-409DBD9D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AD6EC-6108-4081-AC01-74BA92E2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B314C-92EF-49EB-BB9A-0D47DA58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AE416-37AE-45F9-BAD7-B93A553C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2AB03-0181-4356-BD91-9AA9163E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AAC9F-331D-43CC-B2FD-782AA76D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021E4-5A25-4ED5-AF76-61F6B99D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3A5C4-A10B-40EE-B277-83722934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F472E5-F057-466D-AB8C-367107286C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E38BAE-0ED2-437F-B71B-76A4C608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0B0791-00BE-4524-851F-92A733F0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EC99B1-FB80-448C-A622-26132013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48C8A6-EF66-49CF-835D-2326D651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354A57-BE52-4F7F-87EA-D9D06286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E3518E-3A79-4F6F-8927-5E5F91B7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94AD5B-C78B-46C5-93DD-F93F5CE1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16D651-E034-48DE-967B-F8CD4FF0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263726-1772-4BA6-BCEF-73C21BEF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A29186-F351-4B97-8486-BF1A5525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73C343-EC1B-43C8-AE4C-27D5912904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03416-8DD3-4A2F-BE97-116C8E54DF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7C69-A0F9-44CD-BD36-A181F52A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831A-C872-43FB-9E0F-771F5B54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A1EB-9FA7-4F65-87DD-3D68B351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B3C5-B2AB-4C19-AB7F-89D3ACBC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AE87F-16BD-4483-A114-377C1CBD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5D3C9-4F55-4A87-9E5B-289B0726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354F-F413-47F0-A405-C20F67EA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7A9A-815D-4F4D-9575-26FAEC7F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14E9C-04BE-48EC-AAB8-2D986F17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213DF-724D-4409-BCF2-9DA4256E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D8269-DD75-414B-8BC3-485EEA95AC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002F8-9595-4C3E-9A11-25931713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1ED75-78D2-44BF-B9D7-A6E6124E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DCE76-309A-4BEE-A96B-8D22D99D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E4D62-75E4-4004-8DF7-64ECC34C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9C45C-939B-425B-ACB8-2D10794F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FCC4B-57C9-4428-9E8B-56E2257E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4AA76-33B4-4F1E-945F-8114EF60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40277-ED42-4CD9-927D-7A3F69F3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37AFE-DFB3-47FF-86EC-A3741463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0649D-CF82-479C-BA68-9CA3F079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86A55-4A59-4996-B37D-250CAA53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61165-80EC-449C-92DD-AA23D31A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06E7A-B38B-4D20-802D-C92AEFC7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BA69C-FB12-4927-8769-D923554D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9C59E-53B8-419E-81DB-BE6E3879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59950-C048-439F-95C4-9644FAB4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A2972-2197-4C90-8E77-3B626E52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4D560-2E75-4092-8A50-E97D3F1E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0596E-D554-42BF-834F-CEC3E417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A7014-982D-4612-8C2F-E11A51F3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05883-2240-41DE-A4DA-30BD7C4F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8C475-210F-49A4-8B8A-CC065FFD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54765-6DAA-4D86-B876-3FF4F020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25848-2BE9-43AA-828F-13EB0595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28846-5764-4614-9183-83A225F4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BEA5E-6561-465E-B746-6AFD4AAB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BF0FB-01F7-4E6C-994A-16EAA3BC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A5CFD-2F9B-493E-A791-61980CF2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04B6F-01FF-4229-AEE8-3A4B3D64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3440CB-6B55-4398-89B8-595C6C64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7F855-01C5-4F08-8CE2-45BDF865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A8DC2-FC59-45B6-9E8A-5E5CBA75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D53034-FDE9-4219-8C34-8D800076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611A32-EE7E-4FD9-AF54-E731F925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E6919-D8C1-4241-9B30-CC3D1B3C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2B16A-B58D-44AA-9A7C-37E173D6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0BE4E-5F69-463E-BF65-410D4C80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FE060-77ED-4C21-9E96-1CFB0EAA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11323-4B78-406C-B2DA-3DC77A9C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09E9-7BBD-4466-AB3C-70B46B99FFC4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1352-AFA3-4D53-B359-0477D50AB35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B469-BC5B-480C-82DD-996B54268C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1BEC-288B-474B-AA7B-44FCE25E1A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7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7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7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5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D2D6-C0A1-4422-A289-539A5548B1F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6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6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6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6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6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49B8-DD04-4BF8-9482-11A0F3B29050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A3B0-9F36-44ED-A865-190B320CC2C6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2D3E-B28C-4BEB-BB95-8FEA5039CB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8905-2D8C-4BB2-A68D-A33022A9E0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BE8F-A30E-4368-8A32-45E788253C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9B47-9623-4F2A-A350-CE466E8625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6E4F-05F3-46E9-87B4-016CF68C346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テキスト ボックス 1"/>
          <p:cNvSpPr/>
          <p:nvPr/>
        </p:nvSpPr>
        <p:spPr>
          <a:xfrm>
            <a:off x="1631880" y="2120760"/>
            <a:ext cx="587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ニボルマ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イピリムマブ併用療法によっ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rA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肝障害を生じた一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直線コネクタ 16"/>
          <p:cNvSpPr/>
          <p:nvPr/>
        </p:nvSpPr>
        <p:spPr>
          <a:xfrm>
            <a:off x="6022800" y="3668760"/>
            <a:ext cx="0" cy="42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角丸四角形 78"/>
          <p:cNvSpPr/>
          <p:nvPr/>
        </p:nvSpPr>
        <p:spPr>
          <a:xfrm>
            <a:off x="438120" y="2305080"/>
            <a:ext cx="5357880" cy="386064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角丸四角形 81"/>
          <p:cNvSpPr/>
          <p:nvPr/>
        </p:nvSpPr>
        <p:spPr>
          <a:xfrm>
            <a:off x="6046920" y="3844800"/>
            <a:ext cx="2869920" cy="23209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肝機能悪化の原因と考えられる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Nivo+Ipi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中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線コネクタ 25"/>
          <p:cNvSpPr/>
          <p:nvPr/>
        </p:nvSpPr>
        <p:spPr>
          <a:xfrm>
            <a:off x="4735440" y="2138400"/>
            <a:ext cx="0" cy="320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線コネクタ 15"/>
          <p:cNvSpPr/>
          <p:nvPr/>
        </p:nvSpPr>
        <p:spPr>
          <a:xfrm>
            <a:off x="3884760" y="2138400"/>
            <a:ext cx="0" cy="227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線コネクタ 55"/>
          <p:cNvSpPr/>
          <p:nvPr/>
        </p:nvSpPr>
        <p:spPr>
          <a:xfrm>
            <a:off x="6012000" y="2139840"/>
            <a:ext cx="0" cy="6717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線コネクタ 61"/>
          <p:cNvSpPr/>
          <p:nvPr/>
        </p:nvSpPr>
        <p:spPr>
          <a:xfrm>
            <a:off x="7851600" y="2138400"/>
            <a:ext cx="0" cy="2203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直線コネクタ 48"/>
          <p:cNvSpPr/>
          <p:nvPr/>
        </p:nvSpPr>
        <p:spPr>
          <a:xfrm>
            <a:off x="3419640" y="2138400"/>
            <a:ext cx="0" cy="146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ＭＳ Ｐゴシック"/>
              </a:rPr>
              <a:t>現病歴　既往歴　治療介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グループ化 37"/>
          <p:cNvGrpSpPr/>
          <p:nvPr/>
        </p:nvGrpSpPr>
        <p:grpSpPr>
          <a:xfrm>
            <a:off x="23760" y="1000080"/>
            <a:ext cx="8911080" cy="5021280"/>
            <a:chOff x="23760" y="1000080"/>
            <a:chExt cx="8911080" cy="5021280"/>
          </a:xfrm>
        </p:grpSpPr>
        <p:grpSp>
          <p:nvGrpSpPr>
            <p:cNvPr id="693" name="グループ化 29"/>
            <p:cNvGrpSpPr/>
            <p:nvPr/>
          </p:nvGrpSpPr>
          <p:grpSpPr>
            <a:xfrm>
              <a:off x="23760" y="1000080"/>
              <a:ext cx="8911080" cy="5021280"/>
              <a:chOff x="23760" y="1000080"/>
              <a:chExt cx="8911080" cy="5021280"/>
            </a:xfrm>
          </p:grpSpPr>
          <p:sp>
            <p:nvSpPr>
              <p:cNvPr id="694" name="角丸四角形 27"/>
              <p:cNvSpPr/>
              <p:nvPr/>
            </p:nvSpPr>
            <p:spPr>
              <a:xfrm>
                <a:off x="3255840" y="4424400"/>
                <a:ext cx="1633320" cy="722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Nivo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＋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Ip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2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コース目施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角丸四角形 28"/>
              <p:cNvSpPr/>
              <p:nvPr/>
            </p:nvSpPr>
            <p:spPr>
              <a:xfrm>
                <a:off x="6843960" y="4289400"/>
                <a:ext cx="201600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ＭＳ Ｐゴシック"/>
                  </a:rPr>
                  <a:t>PSL 60mg/da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3300"/>
                    </a:solidFill>
                    <a:latin typeface="ＭＳ Ｐゴシック"/>
                  </a:rPr>
                  <a:t>（</a:t>
                </a:r>
                <a:r>
                  <a:rPr b="1" lang="en-US" sz="1400" spc="-1" strike="noStrike">
                    <a:solidFill>
                      <a:srgbClr val="003300"/>
                    </a:solidFill>
                    <a:latin typeface="ＭＳ Ｐゴシック"/>
                  </a:rPr>
                  <a:t>1.0</a:t>
                </a:r>
                <a:r>
                  <a:rPr b="1" lang="ja-JP" sz="1400" spc="-1" strike="noStrike">
                    <a:solidFill>
                      <a:srgbClr val="003300"/>
                    </a:solidFill>
                    <a:latin typeface="ＭＳ Ｐゴシック"/>
                  </a:rPr>
                  <a:t>ｍｇ</a:t>
                </a:r>
                <a:r>
                  <a:rPr b="1" lang="en-US" sz="1400" spc="-1" strike="noStrike">
                    <a:solidFill>
                      <a:srgbClr val="003300"/>
                    </a:solidFill>
                    <a:latin typeface="ＭＳ Ｐゴシック"/>
                  </a:rPr>
                  <a:t>/</a:t>
                </a:r>
                <a:r>
                  <a:rPr b="1" lang="ja-JP" sz="1400" spc="-1" strike="noStrike">
                    <a:solidFill>
                      <a:srgbClr val="003300"/>
                    </a:solidFill>
                    <a:latin typeface="ＭＳ Ｐゴシック"/>
                  </a:rPr>
                  <a:t>ｋｇ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3300"/>
                    </a:solidFill>
                    <a:latin typeface="ＭＳ Ｐゴシック"/>
                  </a:rPr>
                  <a:t>から治療開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角丸四角形 24"/>
              <p:cNvSpPr/>
              <p:nvPr/>
            </p:nvSpPr>
            <p:spPr>
              <a:xfrm>
                <a:off x="5189400" y="2811240"/>
                <a:ext cx="173664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AST: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ＭＳ Ｐゴシック"/>
                  </a:rPr>
                  <a:t>722</a:t>
                </a:r>
                <a:r>
                  <a:rPr b="1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　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ALT: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ＭＳ Ｐゴシック"/>
                  </a:rPr>
                  <a:t>526</a:t>
                </a:r>
                <a:r>
                  <a:rPr b="1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　</a:t>
                </a:r>
                <a:r>
                  <a:rPr b="1" lang="en-US" sz="1400" spc="-1" strike="noStrike">
                    <a:solidFill>
                      <a:srgbClr val="003300"/>
                    </a:solidFill>
                    <a:latin typeface="ＭＳ Ｐゴシック"/>
                  </a:rPr>
                  <a:t>Grade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3300"/>
                    </a:solidFill>
                    <a:latin typeface="ＭＳ Ｐゴシック"/>
                  </a:rPr>
                  <a:t>肝機能悪化のた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3300"/>
                    </a:solidFill>
                    <a:latin typeface="ＭＳ Ｐゴシック"/>
                  </a:rPr>
                  <a:t>消化器内科コンサル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テキスト ボックス 30"/>
              <p:cNvSpPr/>
              <p:nvPr/>
            </p:nvSpPr>
            <p:spPr>
              <a:xfrm>
                <a:off x="5692680" y="1839600"/>
                <a:ext cx="57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ＭＳ Ｐゴシック"/>
                  </a:rPr>
                  <a:t>4/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角丸四角形 23"/>
              <p:cNvSpPr/>
              <p:nvPr/>
            </p:nvSpPr>
            <p:spPr>
              <a:xfrm>
                <a:off x="3978360" y="5280120"/>
                <a:ext cx="1598400" cy="7412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Nivo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＋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Ip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3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コース目施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角丸四角形 17"/>
              <p:cNvSpPr/>
              <p:nvPr/>
            </p:nvSpPr>
            <p:spPr>
              <a:xfrm>
                <a:off x="2574720" y="3608280"/>
                <a:ext cx="1560240" cy="7347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Nivo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＋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Ip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1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コース目施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テキスト ボックス 6"/>
              <p:cNvSpPr/>
              <p:nvPr/>
            </p:nvSpPr>
            <p:spPr>
              <a:xfrm>
                <a:off x="23760" y="1000080"/>
                <a:ext cx="4711680" cy="520200"/>
              </a:xfrm>
              <a:prstGeom prst="rect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XX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年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7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月　右鼻腔悪性黒色腫（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T3N0M0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）に対して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手術＋術後放射線療法＋術後化学療法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(Nivo 1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年間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)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施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角丸四角形 13"/>
              <p:cNvSpPr/>
              <p:nvPr/>
            </p:nvSpPr>
            <p:spPr>
              <a:xfrm>
                <a:off x="1238040" y="3009960"/>
                <a:ext cx="1436400" cy="598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右大腿部に対して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放射線療法施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５１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Gy/17Fr</a:t>
                </a:r>
                <a:r>
                  <a:rPr b="1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テキスト ボックス 14"/>
              <p:cNvSpPr/>
              <p:nvPr/>
            </p:nvSpPr>
            <p:spPr>
              <a:xfrm>
                <a:off x="1375920" y="1612800"/>
                <a:ext cx="771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XX+3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年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テキスト ボックス 15"/>
              <p:cNvSpPr/>
              <p:nvPr/>
            </p:nvSpPr>
            <p:spPr>
              <a:xfrm>
                <a:off x="1782720" y="1830240"/>
                <a:ext cx="99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/6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(~29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テキスト ボックス 16"/>
              <p:cNvSpPr/>
              <p:nvPr/>
            </p:nvSpPr>
            <p:spPr>
              <a:xfrm>
                <a:off x="3122640" y="183960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3/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テキスト ボックス 18"/>
              <p:cNvSpPr/>
              <p:nvPr/>
            </p:nvSpPr>
            <p:spPr>
              <a:xfrm>
                <a:off x="3581280" y="1838160"/>
                <a:ext cx="60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3/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テキスト ボックス 26"/>
              <p:cNvSpPr/>
              <p:nvPr/>
            </p:nvSpPr>
            <p:spPr>
              <a:xfrm>
                <a:off x="4549680" y="184752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4/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角丸四角形 9"/>
              <p:cNvSpPr/>
              <p:nvPr/>
            </p:nvSpPr>
            <p:spPr>
              <a:xfrm>
                <a:off x="176040" y="2357280"/>
                <a:ext cx="1812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右大腿部多発転移再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指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8" name="直線矢印コネクタ 4"/>
              <p:cNvCxnSpPr/>
              <p:nvPr/>
            </p:nvCxnSpPr>
            <p:spPr>
              <a:xfrm>
                <a:off x="437760" y="2118960"/>
                <a:ext cx="8497440" cy="1080"/>
              </a:xfrm>
              <a:prstGeom prst="straightConnector1">
                <a:avLst/>
              </a:prstGeom>
              <a:ln w="7632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709" name="曲折矢印 36"/>
            <p:cNvSpPr/>
            <p:nvPr/>
          </p:nvSpPr>
          <p:spPr>
            <a:xfrm flipH="1" rot="10800000">
              <a:off x="2246040" y="3689280"/>
              <a:ext cx="282240" cy="387360"/>
            </a:xfrm>
            <a:custGeom>
              <a:avLst/>
              <a:gdLst/>
              <a:ahLst/>
              <a:rect l="l" t="t" r="r" b="b"/>
              <a:pathLst>
                <a:path w="282603" h="387508">
                  <a:moveTo>
                    <a:pt x="0" y="387508"/>
                  </a:moveTo>
                  <a:lnTo>
                    <a:pt x="0" y="158964"/>
                  </a:lnTo>
                  <a:cubicBezTo>
                    <a:pt x="0" y="90680"/>
                    <a:pt x="55355" y="35325"/>
                    <a:pt x="123639" y="35325"/>
                  </a:cubicBezTo>
                  <a:lnTo>
                    <a:pt x="211952" y="35325"/>
                  </a:lnTo>
                  <a:lnTo>
                    <a:pt x="211952" y="0"/>
                  </a:lnTo>
                  <a:lnTo>
                    <a:pt x="282603" y="70651"/>
                  </a:lnTo>
                  <a:lnTo>
                    <a:pt x="211952" y="141302"/>
                  </a:lnTo>
                  <a:lnTo>
                    <a:pt x="211952" y="105976"/>
                  </a:lnTo>
                  <a:lnTo>
                    <a:pt x="123639" y="105976"/>
                  </a:lnTo>
                  <a:cubicBezTo>
                    <a:pt x="94375" y="105976"/>
                    <a:pt x="70651" y="129700"/>
                    <a:pt x="70651" y="158964"/>
                  </a:cubicBezTo>
                  <a:lnTo>
                    <a:pt x="70651" y="387508"/>
                  </a:lnTo>
                  <a:lnTo>
                    <a:pt x="0" y="387508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曲折矢印 38"/>
            <p:cNvSpPr/>
            <p:nvPr/>
          </p:nvSpPr>
          <p:spPr>
            <a:xfrm flipH="1" rot="10800000">
              <a:off x="2860560" y="4441320"/>
              <a:ext cx="318960" cy="371160"/>
            </a:xfrm>
            <a:custGeom>
              <a:avLst/>
              <a:gdLst/>
              <a:ahLst/>
              <a:rect l="l" t="t" r="r" b="b"/>
              <a:pathLst>
                <a:path w="319120" h="371627">
                  <a:moveTo>
                    <a:pt x="0" y="371627"/>
                  </a:moveTo>
                  <a:lnTo>
                    <a:pt x="0" y="183606"/>
                  </a:lnTo>
                  <a:cubicBezTo>
                    <a:pt x="0" y="106499"/>
                    <a:pt x="62508" y="43991"/>
                    <a:pt x="139615" y="43991"/>
                  </a:cubicBezTo>
                  <a:lnTo>
                    <a:pt x="239340" y="43991"/>
                  </a:lnTo>
                  <a:lnTo>
                    <a:pt x="239340" y="0"/>
                  </a:lnTo>
                  <a:lnTo>
                    <a:pt x="319120" y="79780"/>
                  </a:lnTo>
                  <a:lnTo>
                    <a:pt x="239340" y="159560"/>
                  </a:lnTo>
                  <a:lnTo>
                    <a:pt x="239340" y="115569"/>
                  </a:lnTo>
                  <a:lnTo>
                    <a:pt x="139615" y="115569"/>
                  </a:lnTo>
                  <a:cubicBezTo>
                    <a:pt x="102040" y="115569"/>
                    <a:pt x="71579" y="146030"/>
                    <a:pt x="71579" y="183605"/>
                  </a:cubicBezTo>
                  <a:lnTo>
                    <a:pt x="71579" y="371627"/>
                  </a:lnTo>
                  <a:lnTo>
                    <a:pt x="0" y="371627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曲折矢印 40"/>
            <p:cNvSpPr/>
            <p:nvPr/>
          </p:nvSpPr>
          <p:spPr>
            <a:xfrm flipH="1" rot="10800000">
              <a:off x="3558960" y="5311440"/>
              <a:ext cx="325440" cy="384120"/>
            </a:xfrm>
            <a:custGeom>
              <a:avLst/>
              <a:gdLst/>
              <a:ahLst/>
              <a:rect l="l" t="t" r="r" b="b"/>
              <a:pathLst>
                <a:path w="325471" h="384332">
                  <a:moveTo>
                    <a:pt x="0" y="384332"/>
                  </a:moveTo>
                  <a:lnTo>
                    <a:pt x="0" y="183077"/>
                  </a:lnTo>
                  <a:cubicBezTo>
                    <a:pt x="0" y="104435"/>
                    <a:pt x="63752" y="40683"/>
                    <a:pt x="142394" y="40683"/>
                  </a:cubicBezTo>
                  <a:lnTo>
                    <a:pt x="254460" y="40684"/>
                  </a:lnTo>
                  <a:lnTo>
                    <a:pt x="254460" y="0"/>
                  </a:lnTo>
                  <a:lnTo>
                    <a:pt x="325471" y="81368"/>
                  </a:lnTo>
                  <a:lnTo>
                    <a:pt x="254460" y="162736"/>
                  </a:lnTo>
                  <a:lnTo>
                    <a:pt x="254460" y="122052"/>
                  </a:lnTo>
                  <a:lnTo>
                    <a:pt x="142394" y="122052"/>
                  </a:lnTo>
                  <a:cubicBezTo>
                    <a:pt x="108690" y="122052"/>
                    <a:pt x="81368" y="149374"/>
                    <a:pt x="81368" y="183078"/>
                  </a:cubicBezTo>
                  <a:lnTo>
                    <a:pt x="81368" y="384332"/>
                  </a:lnTo>
                  <a:lnTo>
                    <a:pt x="0" y="384332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直線コネクタ 45"/>
          <p:cNvSpPr/>
          <p:nvPr/>
        </p:nvSpPr>
        <p:spPr>
          <a:xfrm>
            <a:off x="1116000" y="2146320"/>
            <a:ext cx="0" cy="2109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線コネクタ 46"/>
          <p:cNvSpPr/>
          <p:nvPr/>
        </p:nvSpPr>
        <p:spPr>
          <a:xfrm>
            <a:off x="2165400" y="2138400"/>
            <a:ext cx="6480" cy="871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テキスト ボックス 73"/>
          <p:cNvSpPr/>
          <p:nvPr/>
        </p:nvSpPr>
        <p:spPr>
          <a:xfrm>
            <a:off x="7575480" y="1824120"/>
            <a:ext cx="10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/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テキスト ボックス 3"/>
          <p:cNvSpPr/>
          <p:nvPr/>
        </p:nvSpPr>
        <p:spPr>
          <a:xfrm>
            <a:off x="5853600" y="992160"/>
            <a:ext cx="2253240" cy="58068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ＭＳ Ｐゴシック"/>
              </a:rPr>
              <a:t>66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歳　女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悪性黒色腫の右大腿転移再発で加療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テキスト ボックス 56"/>
          <p:cNvSpPr/>
          <p:nvPr/>
        </p:nvSpPr>
        <p:spPr>
          <a:xfrm>
            <a:off x="249120" y="1625760"/>
            <a:ext cx="7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XX+2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テキスト ボックス 79"/>
          <p:cNvSpPr/>
          <p:nvPr/>
        </p:nvSpPr>
        <p:spPr>
          <a:xfrm>
            <a:off x="971640" y="444168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テキスト ボックス 80"/>
          <p:cNvSpPr/>
          <p:nvPr/>
        </p:nvSpPr>
        <p:spPr>
          <a:xfrm>
            <a:off x="855720" y="4611600"/>
            <a:ext cx="20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耳鼻咽喉科に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転移再発に対し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加療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右矢印 82"/>
          <p:cNvSpPr/>
          <p:nvPr/>
        </p:nvSpPr>
        <p:spPr>
          <a:xfrm>
            <a:off x="5730840" y="5338800"/>
            <a:ext cx="405000" cy="3906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テキスト ボックス 31"/>
          <p:cNvSpPr/>
          <p:nvPr/>
        </p:nvSpPr>
        <p:spPr>
          <a:xfrm>
            <a:off x="4108320" y="1838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ＭＳ Ｐゴシック"/>
              </a:rPr>
              <a:t>4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直線コネクタ 5"/>
          <p:cNvSpPr/>
          <p:nvPr/>
        </p:nvSpPr>
        <p:spPr>
          <a:xfrm>
            <a:off x="4338720" y="2146320"/>
            <a:ext cx="0" cy="7272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角丸四角形 6"/>
          <p:cNvSpPr/>
          <p:nvPr/>
        </p:nvSpPr>
        <p:spPr>
          <a:xfrm>
            <a:off x="3479760" y="2814480"/>
            <a:ext cx="14572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S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1" lang="en-US" sz="1200" spc="-1" strike="noStrike">
                <a:solidFill>
                  <a:srgbClr val="ffc000"/>
                </a:solidFill>
                <a:latin typeface="ＭＳ Ｐゴシック"/>
              </a:rPr>
              <a:t>33</a:t>
            </a:r>
            <a:r>
              <a:rPr b="1" lang="ja-JP" sz="1200" spc="-1" strike="noStrike">
                <a:solidFill>
                  <a:srgbClr val="ffc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1" lang="en-US" sz="1200" spc="-1" strike="noStrike">
                <a:solidFill>
                  <a:srgbClr val="ffc000"/>
                </a:solidFill>
                <a:latin typeface="ＭＳ Ｐゴシック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ＭＳ Ｐゴシック"/>
              </a:rPr>
              <a:t>Grad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3300"/>
                </a:solidFill>
                <a:latin typeface="ＭＳ Ｐゴシック"/>
              </a:rPr>
              <a:t>肝障害出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右矢印 10"/>
          <p:cNvSpPr/>
          <p:nvPr/>
        </p:nvSpPr>
        <p:spPr>
          <a:xfrm>
            <a:off x="4944960" y="3060720"/>
            <a:ext cx="330480" cy="230040"/>
          </a:xfrm>
          <a:prstGeom prst="rightArrow">
            <a:avLst>
              <a:gd name="adj1" fmla="val 50000"/>
              <a:gd name="adj2" fmla="val 50075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角丸四角形 18"/>
          <p:cNvSpPr/>
          <p:nvPr/>
        </p:nvSpPr>
        <p:spPr>
          <a:xfrm>
            <a:off x="5116680" y="4003560"/>
            <a:ext cx="1873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肝障害に対し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ウルソデオキシコール酸投与開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テキスト ボックス 16"/>
          <p:cNvSpPr/>
          <p:nvPr/>
        </p:nvSpPr>
        <p:spPr>
          <a:xfrm>
            <a:off x="830160" y="1838160"/>
            <a:ext cx="6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1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3" descr="C:\Users\p039eb\Desktop\ポリクリ\全身図：前.png"/>
          <p:cNvPicPr/>
          <p:nvPr/>
        </p:nvPicPr>
        <p:blipFill>
          <a:blip r:embed="rId1"/>
          <a:stretch/>
        </p:blipFill>
        <p:spPr>
          <a:xfrm>
            <a:off x="1420920" y="1054080"/>
            <a:ext cx="2663640" cy="56736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テキスト ボックス 4"/>
          <p:cNvSpPr/>
          <p:nvPr/>
        </p:nvSpPr>
        <p:spPr>
          <a:xfrm>
            <a:off x="4900680" y="847800"/>
            <a:ext cx="4164120" cy="5611680"/>
          </a:xfrm>
          <a:custGeom>
            <a:avLst/>
            <a:gdLst>
              <a:gd name="textAreaLeft" fmla="*/ 203040 w 4164120"/>
              <a:gd name="textAreaRight" fmla="*/ 3961080 w 4164120"/>
              <a:gd name="textAreaTop" fmla="*/ 203040 h 5611680"/>
              <a:gd name="textAreaBottom" fmla="*/ 5408640 h 5611680"/>
            </a:gdLst>
            <a:ahLst/>
            <a:rect l="textAreaLeft" t="textAreaTop" r="textAreaRight" b="textAreaBottom"/>
            <a:pathLst>
              <a:path w="21600" h="29108">
                <a:moveTo>
                  <a:pt x="3600" y="0"/>
                </a:moveTo>
                <a:arcTo wR="3600" hR="3600" stAng="16200000" swAng="-5400000"/>
                <a:lnTo>
                  <a:pt x="0" y="25508"/>
                </a:lnTo>
                <a:arcTo wR="3600" hR="3600" stAng="10800000" swAng="-5400000"/>
                <a:lnTo>
                  <a:pt x="18000" y="291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入院時所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身長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: 162.4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㎝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体重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: 55.8k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BMI:2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BT: 36.3 ℃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SpO2: 98%(room a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検査所見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4/24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S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722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526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LD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655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P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175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33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γ-GTP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126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T-bil 0.4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-bil 0.1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PT-% 94%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PTT 29.0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秒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b 2.3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WBC 7600/μ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Plt </a:t>
            </a:r>
            <a:r>
              <a:rPr b="1" lang="en-US" sz="1200" spc="-1" strike="noStrike">
                <a:solidFill>
                  <a:srgbClr val="0070c0"/>
                </a:solidFill>
                <a:latin typeface="ＭＳ Ｐゴシック"/>
              </a:rPr>
              <a:t>11.2</a:t>
            </a:r>
            <a:r>
              <a:rPr b="1" lang="ja-JP" sz="1200" spc="-1" strike="noStrike">
                <a:solidFill>
                  <a:srgbClr val="0070c0"/>
                </a:solidFill>
                <a:latin typeface="ＭＳ Ｐゴシック"/>
              </a:rPr>
              <a:t>万</a:t>
            </a:r>
            <a:r>
              <a:rPr b="1" lang="en-US" sz="1200" spc="-1" strike="noStrike">
                <a:solidFill>
                  <a:srgbClr val="003300"/>
                </a:solidFill>
                <a:latin typeface="ＭＳ Ｐゴシック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μl</a:t>
            </a:r>
            <a:r>
              <a:rPr b="1" lang="ja-JP" sz="1200" spc="-1" strike="noStrike">
                <a:solidFill>
                  <a:srgbClr val="0033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3300"/>
                </a:solidFill>
                <a:latin typeface="ＭＳ Ｐゴシック"/>
              </a:rPr>
              <a:t>RBC</a:t>
            </a:r>
            <a:r>
              <a:rPr b="1" lang="ja-JP" sz="1200" spc="-1" strike="noStrike">
                <a:solidFill>
                  <a:srgbClr val="0033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40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万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/μ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b 12.5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t 35.9%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CRP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3.28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gG </a:t>
            </a:r>
            <a:r>
              <a:rPr b="1" lang="en-US" sz="1200" spc="-1" strike="noStrike">
                <a:solidFill>
                  <a:srgbClr val="0070c0"/>
                </a:solidFill>
                <a:latin typeface="ＭＳ Ｐゴシック"/>
              </a:rPr>
              <a:t>771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gG4 27.4mg/dl 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gM 146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Bs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bs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原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Bc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CV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抗核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抗ミトコンドリア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M2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生活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飲酒歴：なし、喫煙歴：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家族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特記事項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既往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脳動脈瘤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002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コイル塞栓）、脂質異常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アレルギー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食物：エビ、カニ、ピーナッツ、チョコレ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薬剤：造影剤で蕁麻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内服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アセトアミノフェン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500mg 4T/day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4/21~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ボノプラザンフマル酸塩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0mg 1T/day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4/25~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モサプリドクエン酸塩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5mg 3T/day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4/22~5/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レボチロキシンナトリウム水和物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5μg 1T/day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4/20~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フルチカゾンフランカルボン酸エステル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回点鼻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/day (2021/1~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*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肝障害出現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4/14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以前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以内で新規開始薬剤は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角丸四角形吹き出し 5"/>
          <p:cNvSpPr/>
          <p:nvPr/>
        </p:nvSpPr>
        <p:spPr>
          <a:xfrm>
            <a:off x="682560" y="885960"/>
            <a:ext cx="1727280" cy="934920"/>
          </a:xfrm>
          <a:prstGeom prst="wedgeRoundRectCallout">
            <a:avLst>
              <a:gd name="adj1" fmla="val 41222"/>
              <a:gd name="adj2" fmla="val 6423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意識清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リンパ節腫脹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眼瞼結膜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貧血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眼球結膜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黄染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角丸四角形吹き出し 11"/>
          <p:cNvSpPr/>
          <p:nvPr/>
        </p:nvSpPr>
        <p:spPr>
          <a:xfrm>
            <a:off x="88920" y="2230560"/>
            <a:ext cx="2463840" cy="871560"/>
          </a:xfrm>
          <a:prstGeom prst="wedgeRoundRectCallout">
            <a:avLst>
              <a:gd name="adj1" fmla="val 61861"/>
              <a:gd name="adj2" fmla="val 1402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R: 56bpm, BP: 109/64mm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eart: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心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Lung: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呼吸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 r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角丸四角形吹き出し 12"/>
          <p:cNvSpPr/>
          <p:nvPr/>
        </p:nvSpPr>
        <p:spPr>
          <a:xfrm>
            <a:off x="3218040" y="2290680"/>
            <a:ext cx="1655640" cy="1971720"/>
          </a:xfrm>
          <a:prstGeom prst="wedgeRoundRectCallout">
            <a:avLst>
              <a:gd name="adj1" fmla="val -75916"/>
              <a:gd name="adj2" fmla="val 2008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腹部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平坦、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角丸四角形吹き出し 27"/>
          <p:cNvSpPr/>
          <p:nvPr/>
        </p:nvSpPr>
        <p:spPr>
          <a:xfrm>
            <a:off x="208080" y="5076720"/>
            <a:ext cx="1877760" cy="728640"/>
          </a:xfrm>
          <a:prstGeom prst="wedgeRoundRectCallout">
            <a:avLst>
              <a:gd name="adj1" fmla="val 72236"/>
              <a:gd name="adj2" fmla="val -6918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下腿浮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70c0"/>
                </a:solidFill>
                <a:latin typeface="ＭＳ Ｐゴシック"/>
              </a:rPr>
              <a:t>右大腿部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70c0"/>
                </a:solidFill>
                <a:latin typeface="ＭＳ Ｐゴシック"/>
              </a:rPr>
              <a:t>再発腫瘤を触知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角丸四角形吹き出し 16"/>
          <p:cNvSpPr/>
          <p:nvPr/>
        </p:nvSpPr>
        <p:spPr>
          <a:xfrm>
            <a:off x="174600" y="3755880"/>
            <a:ext cx="1944720" cy="777960"/>
          </a:xfrm>
          <a:prstGeom prst="wedgeRoundRectCallout">
            <a:avLst>
              <a:gd name="adj1" fmla="val 70925"/>
              <a:gd name="adj2" fmla="val -6991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肝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角丸四角形吹き出し 17"/>
          <p:cNvSpPr/>
          <p:nvPr/>
        </p:nvSpPr>
        <p:spPr>
          <a:xfrm>
            <a:off x="3635280" y="4595760"/>
            <a:ext cx="1152720" cy="43200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手掌紅斑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角丸四角形吹き出し 17"/>
          <p:cNvSpPr/>
          <p:nvPr/>
        </p:nvSpPr>
        <p:spPr>
          <a:xfrm>
            <a:off x="3303720" y="1274760"/>
            <a:ext cx="1584360" cy="620640"/>
          </a:xfrm>
          <a:prstGeom prst="wedgeRoundRectCallout">
            <a:avLst>
              <a:gd name="adj1" fmla="val -79013"/>
              <a:gd name="adj2" fmla="val 5509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甲状腺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腫大・圧痛なし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可動性良好・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グラフ 7"/>
          <p:cNvGraphicFramePr/>
          <p:nvPr/>
        </p:nvGraphicFramePr>
        <p:xfrm>
          <a:off x="-52560" y="3894120"/>
          <a:ext cx="7577280" cy="20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7" name="グラフ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2560" y="3894120"/>
                    <a:ext cx="757728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角丸四角形 17"/>
          <p:cNvSpPr/>
          <p:nvPr/>
        </p:nvSpPr>
        <p:spPr>
          <a:xfrm>
            <a:off x="6732720" y="3813120"/>
            <a:ext cx="2298600" cy="2481480"/>
          </a:xfrm>
          <a:custGeom>
            <a:avLst/>
            <a:gdLst>
              <a:gd name="textAreaLeft" fmla="*/ 111960 w 2298600"/>
              <a:gd name="textAreaRight" fmla="*/ 2186640 w 2298600"/>
              <a:gd name="textAreaTop" fmla="*/ 111960 h 2481480"/>
              <a:gd name="textAreaBottom" fmla="*/ 2369520 h 2481480"/>
            </a:gdLst>
            <a:ahLst/>
            <a:rect l="textAreaLeft" t="textAreaTop" r="textAreaRight" b="textAreaBottom"/>
            <a:pathLst>
              <a:path w="21600" h="23318">
                <a:moveTo>
                  <a:pt x="3600" y="0"/>
                </a:moveTo>
                <a:arcTo wR="3600" hR="3600" stAng="16200000" swAng="-5400000"/>
                <a:lnTo>
                  <a:pt x="0" y="19718"/>
                </a:lnTo>
                <a:arcTo wR="3600" hR="3600" stAng="10800000" swAng="-5400000"/>
                <a:lnTo>
                  <a:pt x="18000" y="233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eef4"/>
          </a:soli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コンサルト時点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(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第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0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病日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)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AST720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、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ALT526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、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T-bil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→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CTCAE Grade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3300"/>
                </a:solidFill>
                <a:latin typeface="Calibri"/>
              </a:rPr>
              <a:t>⇒</a:t>
            </a:r>
            <a:r>
              <a:rPr b="1" lang="ja-JP" sz="1100" spc="-1" strike="noStrike">
                <a:solidFill>
                  <a:srgbClr val="003300"/>
                </a:solidFill>
                <a:latin typeface="Calibri"/>
              </a:rPr>
              <a:t>ウルソデオキシコール酸投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週明けの第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3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病日より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PSL60mg/day(1.0mg/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投与開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30mg/day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まで減量行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退院予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テキスト ボックス 10"/>
          <p:cNvSpPr/>
          <p:nvPr/>
        </p:nvSpPr>
        <p:spPr>
          <a:xfrm>
            <a:off x="0" y="60480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～免疫関連肝障害の診断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テキスト ボックス 45"/>
          <p:cNvSpPr/>
          <p:nvPr/>
        </p:nvSpPr>
        <p:spPr>
          <a:xfrm>
            <a:off x="1941480" y="6068880"/>
            <a:ext cx="478332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SL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投与開始後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ST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及び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T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速やかに低下し、正常値に戻っ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診断と治療方針　治療経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テキスト ボックス 19"/>
          <p:cNvSpPr/>
          <p:nvPr/>
        </p:nvSpPr>
        <p:spPr>
          <a:xfrm>
            <a:off x="112680" y="3627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～治療経過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角丸四角形 21"/>
          <p:cNvSpPr/>
          <p:nvPr/>
        </p:nvSpPr>
        <p:spPr>
          <a:xfrm>
            <a:off x="1679400" y="955800"/>
            <a:ext cx="2808360" cy="67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肝機能検査値異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肝炎関連症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（黄疸、倦怠感、浮腫、悪心など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円/楕円 22"/>
          <p:cNvSpPr/>
          <p:nvPr/>
        </p:nvSpPr>
        <p:spPr>
          <a:xfrm>
            <a:off x="103320" y="993600"/>
            <a:ext cx="1476360" cy="514440"/>
          </a:xfrm>
          <a:prstGeom prst="ellips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Calibri"/>
              </a:rPr>
              <a:t>一次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円/楕円 26"/>
          <p:cNvSpPr/>
          <p:nvPr/>
        </p:nvSpPr>
        <p:spPr>
          <a:xfrm>
            <a:off x="104760" y="1766880"/>
            <a:ext cx="1474920" cy="504720"/>
          </a:xfrm>
          <a:prstGeom prst="ellips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Calibri"/>
              </a:rPr>
              <a:t>二次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角丸四角形 28"/>
          <p:cNvSpPr/>
          <p:nvPr/>
        </p:nvSpPr>
        <p:spPr>
          <a:xfrm>
            <a:off x="1679400" y="1724040"/>
            <a:ext cx="280836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他の肝疾患との鑑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ウイルス性肝炎、肝転移、薬物性肝障害など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肝予備能の評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角丸四角形 29"/>
          <p:cNvSpPr/>
          <p:nvPr/>
        </p:nvSpPr>
        <p:spPr>
          <a:xfrm>
            <a:off x="1690560" y="2727360"/>
            <a:ext cx="27972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画像診断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腹部エコー、腹部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T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など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病理組織学的検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肝生検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下矢印 31"/>
          <p:cNvSpPr/>
          <p:nvPr/>
        </p:nvSpPr>
        <p:spPr>
          <a:xfrm>
            <a:off x="2990880" y="2516040"/>
            <a:ext cx="216000" cy="201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右矢印 1"/>
          <p:cNvSpPr/>
          <p:nvPr/>
        </p:nvSpPr>
        <p:spPr>
          <a:xfrm>
            <a:off x="4576680" y="1130400"/>
            <a:ext cx="503280" cy="3096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右矢印 23"/>
          <p:cNvSpPr/>
          <p:nvPr/>
        </p:nvSpPr>
        <p:spPr>
          <a:xfrm>
            <a:off x="4572000" y="1981080"/>
            <a:ext cx="503280" cy="3114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右矢印 24"/>
          <p:cNvSpPr/>
          <p:nvPr/>
        </p:nvSpPr>
        <p:spPr>
          <a:xfrm>
            <a:off x="4572000" y="2816280"/>
            <a:ext cx="503280" cy="3096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角丸四角形 2"/>
          <p:cNvSpPr/>
          <p:nvPr/>
        </p:nvSpPr>
        <p:spPr>
          <a:xfrm>
            <a:off x="5292720" y="987480"/>
            <a:ext cx="316692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de4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肝障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ST,A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黄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、倦怠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、浮腫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、悪心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、発熱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角丸四角形 25"/>
          <p:cNvSpPr/>
          <p:nvPr/>
        </p:nvSpPr>
        <p:spPr>
          <a:xfrm>
            <a:off x="5292720" y="1668600"/>
            <a:ext cx="31669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原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Bc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CV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RP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3.28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WBC 7600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T% 94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hild B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lb 3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、計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核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抗ミトコンドリア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M2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明らかな肝転移、被疑薬剤は指摘できなかっ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角丸四角形 27"/>
          <p:cNvSpPr/>
          <p:nvPr/>
        </p:nvSpPr>
        <p:spPr>
          <a:xfrm>
            <a:off x="5292720" y="2778120"/>
            <a:ext cx="3166920" cy="46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肝障害を来す明らかな器質的異常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肝生検は未施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テキスト ボックス 3"/>
          <p:cNvSpPr/>
          <p:nvPr/>
        </p:nvSpPr>
        <p:spPr>
          <a:xfrm>
            <a:off x="5527800" y="336384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診断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A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肝障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de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曲折矢印 5"/>
          <p:cNvSpPr/>
          <p:nvPr/>
        </p:nvSpPr>
        <p:spPr>
          <a:xfrm flipV="1">
            <a:off x="6094440" y="3790080"/>
            <a:ext cx="638280" cy="419400"/>
          </a:xfrm>
          <a:custGeom>
            <a:avLst/>
            <a:gdLst/>
            <a:ahLst/>
            <a:rect l="l" t="t" r="r" b="b"/>
            <a:pathLst>
              <a:path w="638175" h="419100">
                <a:moveTo>
                  <a:pt x="0" y="419100"/>
                </a:moveTo>
                <a:lnTo>
                  <a:pt x="0" y="240364"/>
                </a:lnTo>
                <a:cubicBezTo>
                  <a:pt x="0" y="139099"/>
                  <a:pt x="82091" y="57008"/>
                  <a:pt x="183356" y="57008"/>
                </a:cubicBezTo>
                <a:lnTo>
                  <a:pt x="533400" y="57008"/>
                </a:lnTo>
                <a:lnTo>
                  <a:pt x="533400" y="0"/>
                </a:lnTo>
                <a:lnTo>
                  <a:pt x="638175" y="118635"/>
                </a:lnTo>
                <a:lnTo>
                  <a:pt x="533400" y="237269"/>
                </a:lnTo>
                <a:lnTo>
                  <a:pt x="533400" y="180261"/>
                </a:lnTo>
                <a:lnTo>
                  <a:pt x="183356" y="180261"/>
                </a:lnTo>
                <a:cubicBezTo>
                  <a:pt x="150162" y="180261"/>
                  <a:pt x="123253" y="207170"/>
                  <a:pt x="123253" y="240364"/>
                </a:cubicBezTo>
                <a:lnTo>
                  <a:pt x="123253" y="419100"/>
                </a:lnTo>
                <a:lnTo>
                  <a:pt x="0" y="419100"/>
                </a:lnTo>
                <a:close/>
              </a:path>
            </a:pathLst>
          </a:custGeom>
          <a:solidFill>
            <a:srgbClr val="b7dee8"/>
          </a:solidFill>
          <a:ln w="25560">
            <a:solidFill>
              <a:srgbClr val="b7de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図 8" descr=""/>
          <p:cNvPicPr/>
          <p:nvPr/>
        </p:nvPicPr>
        <p:blipFill>
          <a:blip r:embed="rId3"/>
          <a:srcRect l="31654" t="21645" r="32087" b="10235"/>
          <a:stretch/>
        </p:blipFill>
        <p:spPr>
          <a:xfrm>
            <a:off x="23760" y="2354400"/>
            <a:ext cx="1655640" cy="1230120"/>
          </a:xfrm>
          <a:prstGeom prst="rect">
            <a:avLst/>
          </a:prstGeom>
          <a:ln w="0">
            <a:noFill/>
          </a:ln>
        </p:spPr>
      </p:pic>
      <p:sp>
        <p:nvSpPr>
          <p:cNvPr id="758" name="直線コネクタ 30"/>
          <p:cNvSpPr/>
          <p:nvPr/>
        </p:nvSpPr>
        <p:spPr>
          <a:xfrm>
            <a:off x="2771640" y="4192560"/>
            <a:ext cx="0" cy="1555920"/>
          </a:xfrm>
          <a:prstGeom prst="line">
            <a:avLst/>
          </a:prstGeom>
          <a:ln w="38160">
            <a:solidFill>
              <a:srgbClr val="d9969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線コネクタ 32"/>
          <p:cNvSpPr/>
          <p:nvPr/>
        </p:nvSpPr>
        <p:spPr>
          <a:xfrm>
            <a:off x="3635280" y="4192560"/>
            <a:ext cx="0" cy="1511280"/>
          </a:xfrm>
          <a:prstGeom prst="line">
            <a:avLst/>
          </a:prstGeom>
          <a:ln w="38160">
            <a:solidFill>
              <a:srgbClr val="d9969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角丸四角形 13"/>
          <p:cNvSpPr/>
          <p:nvPr/>
        </p:nvSpPr>
        <p:spPr>
          <a:xfrm>
            <a:off x="2357280" y="5748480"/>
            <a:ext cx="828720" cy="21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コンサル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角丸四角形 13"/>
          <p:cNvSpPr/>
          <p:nvPr/>
        </p:nvSpPr>
        <p:spPr>
          <a:xfrm>
            <a:off x="3295800" y="5748480"/>
            <a:ext cx="828360" cy="21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PSL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導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7:05:23Z</dcterms:modified>
  <cp:revision>158</cp:revision>
  <dc:subject/>
  <dc:title>肝胆膵病態学総論</dc:title>
</cp:coreProperties>
</file>