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1B4A-EBF3-4275-9AD0-69E8F12F7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AF2D-6DDA-414F-A070-75B4550296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301B-7ECE-49B4-A7BA-00F311B45C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6D56-514E-4877-8C79-F83D7FB131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407ED-F340-4B73-BD25-D26CACD9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A45C6-AE9C-4F28-8F7C-9A216DFF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16AA9-1B0D-42A9-972F-D021E46C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0929F-E2ED-4B09-90CC-29B7410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17A13-85A1-4349-957B-50F3337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0717B-2549-471F-97DF-AD84B87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1E0BF-4824-42D3-B7A2-ADAF0052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9A804-FACF-4EA1-AF0C-5BE5758A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06E99-83DD-4965-922F-67EE3B68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22408-FEEC-48F3-B93B-C034551D3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41AF6-3668-4531-BC24-D5658BC4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0100A7-3358-4F2F-BADF-5EBC7FD1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840FF5-2177-4112-9049-BDC05CFC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8347E-38E5-4075-88A3-BA58B22C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7DD778-CEEF-4698-B47D-58F8928F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C639B7-B6FD-46AE-A194-D0663D9D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D2BCF-A11F-419D-9D9D-67E6B972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3BE369-D001-4065-9EE5-55C3A70F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2BFAC9-0B22-4A23-9AA1-2A362725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A2CE2-361A-475E-8777-95707B80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82C1AD-9D8A-46CD-A2D6-7CD7F3189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42924-4303-415E-9CC5-40C9EC7A3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A143B-0571-4B1A-82F8-5E655DDE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055A3-3774-40AF-86B7-1D367C86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8907-3858-4363-B861-FE7B3AB8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6A5FB-A5E1-4E33-A281-C567EB6E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42911-40E0-477B-8FFC-514AB11E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0D896-8879-46DF-8F95-AC4A25A5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C3D53-B22B-4F85-AE19-C46A418C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535B-E9C2-4468-BB7C-29617194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F062-E473-4285-880F-E7BCBA9F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19728-D707-4364-9B10-A479EC88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1E2C-970D-4E37-8C5D-335AF2AFC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8EB5-24F4-4DEC-B67D-DD68F2B0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6186-C546-44AA-B08F-EBB35B2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85584-486C-4A73-B5CF-814F2F07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4417-3DAD-4917-AFD2-B92D158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5379-9CE0-4127-A30C-5A48EA6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3F28D-DABE-4404-B0F0-F36E5488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59C27-7CEE-4B35-8515-98A0F29E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D0A72-71E7-4094-8EE6-AEE4F53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9D8B-338D-4859-954A-708B86A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CF83A-B973-4695-91B8-6523DBE1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F4D08-8F02-4FD2-A216-BF58371A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847B5-79C6-461D-BB02-FD475AB6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F0740-DAC2-4096-B8AF-4F257721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13427-4275-4041-8E9D-5E79DFAB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AE208-6BC4-4753-9958-CDD923A2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EFD51-5528-43D2-96D2-DAA44E66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A9087-4D10-46FD-8883-1F6AA3CA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70CE7-FF61-4D8D-A05A-FFCE5125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0CBED-005A-442A-BB92-B19685D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EAEC-4AD3-4D72-BAAC-0B5467D9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15F18-97CD-4365-9098-F702A51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1C9C4-D011-4D79-882A-B6B562AB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8416F-8B7D-41A4-9D41-BBD5AF3D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BCC70-017C-4874-9B3E-C88270EE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0AA9CA-F98A-45ED-B28E-14DFF8CA8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74978-5177-4FFB-A87B-CB9128E4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37FA9-AECD-47B5-92D6-BD898AE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9EB408-A947-4EFF-ACD1-D61DEB0A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D6573-780E-461A-8C77-194610FF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FBF2A-1427-4D99-A4C7-B4F67EF0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939CAD-98B5-4294-8BE8-3F778BAF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D001C0-83A4-4BF1-B986-F1ED9C8F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B98782-45ED-4200-9190-EC745A6D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59D48D-9553-49AB-9E3F-E29D1566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41B7BC-0499-4338-ABB1-5B914B0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E608B0-C609-4070-B509-F51AF3A3EF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6CA8-46A3-4F63-94B9-D42033127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1B71-670A-4378-ADE5-69F3F7A8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2A5B-3DCF-4093-99CC-64D11034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93F2-606A-4866-A18C-0B0AE1D2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9F9E-4171-4327-BDDC-6F7B8E13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51D0-564F-444A-A9CB-F4A576D7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2862-A016-41D6-BEC8-916AAC1A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B633-75CA-4E61-ABD0-979C09D1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AE8E-9BEC-4FEF-9286-353D3211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1A83-2E8A-426F-AD8F-F945F029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D4B8-1307-49DB-BEAD-5C468D8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C245-12CE-4970-BB25-255819A34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3DE40-391D-4669-8001-8B5C7401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FB90D-6158-4BB0-AF98-97C524E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E6C96-1BC5-49A8-9494-13CDBEE9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2FC51-F2B5-4D10-B326-8F5F0593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51B4B-8A20-4BC6-8CB1-1E6EDA71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0687F-A971-4F2B-8234-5412891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3BE01-F831-4BFB-9E34-464FA06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70647-9236-4366-BFF8-FD24C8C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FB1C6-55D1-427B-9468-D68C86CD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8EC2C-AC18-445A-811F-0AF172F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EE8D7-C2C3-445F-8A30-B22DB37F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00DCF-3C70-4319-9026-EFBB0E58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9B12B-FCF1-4BF6-B29D-FA968785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C036F-3F6F-419E-9D57-C4DD847E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7D19A-531D-44A6-BE52-C9E7184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4171A-ECCC-4346-8B78-1A1797D6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EC312-52FF-48ED-813F-0731D7FA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89D4F-8F49-42C4-87F6-2F69BBE8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EC739-0F81-44BD-971A-3EDCA1A7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6268C-8B73-4494-9C2B-CFDC017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25347-FDDA-4BEE-BD1B-2EC0353A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EA615-17A1-4B76-9B57-30477C50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2E157-B862-4789-BFB2-67267D59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79F9D-291B-4C5A-AA11-C7A3ABC9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6C5E4-F2B1-429C-BDB1-FE76C04C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92F40-3FC4-439E-B9E3-720C68B7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6406B-C01C-4A5D-8CDD-0446B01E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D1191-9D91-407E-8D6F-6E61D52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A8D85-E908-4A62-9B87-BD519F55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1B5CF-F33D-4F53-8865-01E6BEF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775F8-D11B-4716-BC16-74887273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A0CBC-A959-4778-A0D7-514A562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14379-CCB8-4733-9040-63BA4A7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4FFFF-8762-417E-8A6C-8353AA71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5088A-FD1C-4342-8037-7EA1F4DE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9BF9A-E5DF-421B-A588-2149996C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3A46F-64C0-4278-ACED-A9A7FC10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A04F5-693E-46BB-8EEB-2E7386BC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C3598-AE18-4C9E-A1C8-CFEF4FC5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6CE9-4A42-486C-AB7D-CF3BDF0E6910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D28-7023-470F-9C9D-181F153ADC3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21D0-6077-4FDF-9E78-8B3BA317DA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F288-710F-41A2-9F1E-F1767245F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0D4-EA01-4AD4-B040-09F597C22D4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EF4D-EE0F-4C18-A18B-AD81D88E5682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70D6-93F5-460B-B9B9-B3BCF9A19B3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C830-A13A-46F1-9DB8-4E8DF01AEC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83C2-06CF-46F6-8743-5A51EE4F7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80E-061D-4357-8EC1-195940E32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EC09-BEFD-43C2-B6D3-695842E87F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A03D-D696-4869-BE26-64842C062D6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2371680" y="907920"/>
            <a:ext cx="4473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再発食道癌に対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光線力学療法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PDT</a:t>
            </a: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）を行った一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直線コネクタ 83"/>
          <p:cNvSpPr/>
          <p:nvPr/>
        </p:nvSpPr>
        <p:spPr>
          <a:xfrm>
            <a:off x="7812000" y="1989000"/>
            <a:ext cx="0" cy="81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51"/>
          <p:cNvSpPr/>
          <p:nvPr/>
        </p:nvSpPr>
        <p:spPr>
          <a:xfrm>
            <a:off x="3949560" y="1989000"/>
            <a:ext cx="0" cy="1349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線コネクタ 57"/>
          <p:cNvSpPr/>
          <p:nvPr/>
        </p:nvSpPr>
        <p:spPr>
          <a:xfrm>
            <a:off x="4572000" y="1989000"/>
            <a:ext cx="0" cy="2232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55"/>
          <p:cNvSpPr/>
          <p:nvPr/>
        </p:nvSpPr>
        <p:spPr>
          <a:xfrm>
            <a:off x="6227640" y="1989000"/>
            <a:ext cx="0" cy="225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61"/>
          <p:cNvSpPr/>
          <p:nvPr/>
        </p:nvSpPr>
        <p:spPr>
          <a:xfrm flipH="1">
            <a:off x="8386920" y="1989000"/>
            <a:ext cx="1440" cy="26942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症例　</a:t>
            </a:r>
            <a:r>
              <a:rPr b="1" lang="en-US" sz="3200" spc="-1" strike="noStrike">
                <a:solidFill>
                  <a:srgbClr val="006600"/>
                </a:solidFill>
                <a:latin typeface="ＭＳ Ｐゴシック"/>
              </a:rPr>
              <a:t>80</a:t>
            </a: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代男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9" name="グループ化 37"/>
          <p:cNvGrpSpPr/>
          <p:nvPr/>
        </p:nvGrpSpPr>
        <p:grpSpPr>
          <a:xfrm>
            <a:off x="196920" y="960480"/>
            <a:ext cx="8623080" cy="4826160"/>
            <a:chOff x="196920" y="960480"/>
            <a:chExt cx="8623080" cy="4826160"/>
          </a:xfrm>
        </p:grpSpPr>
        <p:grpSp>
          <p:nvGrpSpPr>
            <p:cNvPr id="690" name="グループ化 29"/>
            <p:cNvGrpSpPr/>
            <p:nvPr/>
          </p:nvGrpSpPr>
          <p:grpSpPr>
            <a:xfrm>
              <a:off x="196920" y="960480"/>
              <a:ext cx="8623080" cy="4826160"/>
              <a:chOff x="196920" y="960480"/>
              <a:chExt cx="8623080" cy="4826160"/>
            </a:xfrm>
          </p:grpSpPr>
          <p:sp>
            <p:nvSpPr>
              <p:cNvPr id="691" name="角丸四角形 33"/>
              <p:cNvSpPr/>
              <p:nvPr/>
            </p:nvSpPr>
            <p:spPr>
              <a:xfrm>
                <a:off x="7954920" y="4653000"/>
                <a:ext cx="8650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PDT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施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角丸四角形 35"/>
              <p:cNvSpPr/>
              <p:nvPr/>
            </p:nvSpPr>
            <p:spPr>
              <a:xfrm>
                <a:off x="7020000" y="2636640"/>
                <a:ext cx="1325520" cy="1398600"/>
              </a:xfrm>
              <a:custGeom>
                <a:avLst/>
                <a:gdLst>
                  <a:gd name="textAreaLeft" fmla="*/ 64440 w 1325520"/>
                  <a:gd name="textAreaRight" fmla="*/ 1261080 w 1325520"/>
                  <a:gd name="textAreaTop" fmla="*/ 64440 h 1398600"/>
                  <a:gd name="textAreaBottom" fmla="*/ 1334160 h 1398600"/>
                </a:gdLst>
                <a:ahLst/>
                <a:rect l="textAreaLeft" t="textAreaTop" r="textAreaRight" b="textAreaBottom"/>
                <a:pathLst>
                  <a:path w="21600" h="22791">
                    <a:moveTo>
                      <a:pt x="3600" y="0"/>
                    </a:moveTo>
                    <a:arcTo wR="3600" hR="3600" stAng="16200000" swAng="-5400000"/>
                    <a:lnTo>
                      <a:pt x="0" y="19191"/>
                    </a:lnTo>
                    <a:arcTo wR="3600" hR="3600" stAng="10800000" swAng="-5400000"/>
                    <a:lnTo>
                      <a:pt x="18000" y="2279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手術、放射線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化学療法は困難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ancer board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PD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治療目的に当科入院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テキスト ボックス 39"/>
              <p:cNvSpPr/>
              <p:nvPr/>
            </p:nvSpPr>
            <p:spPr>
              <a:xfrm>
                <a:off x="5072040" y="1854000"/>
                <a:ext cx="1901520" cy="3017520"/>
              </a:xfrm>
              <a:custGeom>
                <a:avLst/>
                <a:gdLst>
                  <a:gd name="textAreaLeft" fmla="*/ 92520 w 1901520"/>
                  <a:gd name="textAreaRight" fmla="*/ 1809000 w 1901520"/>
                  <a:gd name="textAreaTop" fmla="*/ 92520 h 3017520"/>
                  <a:gd name="textAreaBottom" fmla="*/ 2925000 h 3017520"/>
                </a:gdLst>
                <a:ahLst/>
                <a:rect l="textAreaLeft" t="textAreaTop" r="textAreaRight" b="textAreaBottom"/>
                <a:pathLst>
                  <a:path w="21600" h="34275">
                    <a:moveTo>
                      <a:pt x="3600" y="0"/>
                    </a:moveTo>
                    <a:arcTo wR="3600" hR="3600" stAng="16200000" swAng="-5400000"/>
                    <a:lnTo>
                      <a:pt x="0" y="30675"/>
                    </a:lnTo>
                    <a:arcTo wR="3600" hR="3600" stAng="10800000" swAng="-5400000"/>
                    <a:lnTo>
                      <a:pt x="18000" y="3427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33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0-I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病変を認め、生検で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CC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と診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（深達度は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M massive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疑い）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テキスト ボックス 21"/>
              <p:cNvSpPr/>
              <p:nvPr/>
            </p:nvSpPr>
            <p:spPr>
              <a:xfrm>
                <a:off x="1490400" y="1854000"/>
                <a:ext cx="1928520" cy="3932640"/>
              </a:xfrm>
              <a:custGeom>
                <a:avLst/>
                <a:gdLst>
                  <a:gd name="textAreaLeft" fmla="*/ 93960 w 1928520"/>
                  <a:gd name="textAreaRight" fmla="*/ 1834560 w 1928520"/>
                  <a:gd name="textAreaTop" fmla="*/ 93960 h 3932640"/>
                  <a:gd name="textAreaBottom" fmla="*/ 3838680 h 3932640"/>
                </a:gdLst>
                <a:ahLst/>
                <a:rect l="textAreaLeft" t="textAreaTop" r="textAreaRight" b="textAreaBottom"/>
                <a:pathLst>
                  <a:path w="21600" h="44043">
                    <a:moveTo>
                      <a:pt x="3600" y="0"/>
                    </a:moveTo>
                    <a:arcTo wR="3600" hR="3600" stAng="16200000" swAng="-5400000"/>
                    <a:lnTo>
                      <a:pt x="0" y="40443"/>
                    </a:lnTo>
                    <a:arcTo wR="3600" hR="3600" stAng="10800000" swAng="-5400000"/>
                    <a:lnTo>
                      <a:pt x="18000" y="4404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30-32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M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浸潤が疑われ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食道癌を認めた。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(cT1bN0M0 stageⅠ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上記病変に対して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C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(Low-dose FP+RT66Gy)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施行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→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C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角丸四角形 28"/>
              <p:cNvSpPr/>
              <p:nvPr/>
            </p:nvSpPr>
            <p:spPr>
              <a:xfrm>
                <a:off x="3755880" y="4059360"/>
                <a:ext cx="1288800" cy="65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表在型食道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40cm 0-II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ES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テキスト ボックス 25"/>
              <p:cNvSpPr/>
              <p:nvPr/>
            </p:nvSpPr>
            <p:spPr>
              <a:xfrm>
                <a:off x="4315680" y="1484280"/>
                <a:ext cx="81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ＭＳ Ｐゴシック"/>
                  </a:rPr>
                  <a:t>2018</a:t>
                </a:r>
                <a:r>
                  <a:rPr b="0" lang="ja-JP" sz="1600" spc="-1" strike="noStrike">
                    <a:solidFill>
                      <a:srgbClr val="ff0000"/>
                    </a:solidFill>
                    <a:latin typeface="ＭＳ Ｐゴシック"/>
                  </a:rPr>
                  <a:t>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テキスト ボックス 30"/>
              <p:cNvSpPr/>
              <p:nvPr/>
            </p:nvSpPr>
            <p:spPr>
              <a:xfrm>
                <a:off x="5724360" y="170028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1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テキスト ボックス 32"/>
              <p:cNvSpPr/>
              <p:nvPr/>
            </p:nvSpPr>
            <p:spPr>
              <a:xfrm>
                <a:off x="8028000" y="170028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/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17"/>
              <p:cNvSpPr/>
              <p:nvPr/>
            </p:nvSpPr>
            <p:spPr>
              <a:xfrm>
                <a:off x="2787480" y="5158080"/>
                <a:ext cx="1657080" cy="5540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照射後甲状腺機能低下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テキスト ボックス 6"/>
              <p:cNvSpPr/>
              <p:nvPr/>
            </p:nvSpPr>
            <p:spPr>
              <a:xfrm>
                <a:off x="196920" y="960480"/>
                <a:ext cx="3074760" cy="307080"/>
              </a:xfrm>
              <a:prstGeom prst="rect">
                <a:avLst/>
              </a:prstGeom>
              <a:solidFill>
                <a:srgbClr val="fdeada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5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前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食道癌化学放射線療法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CR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角丸四角形 13"/>
              <p:cNvSpPr/>
              <p:nvPr/>
            </p:nvSpPr>
            <p:spPr>
              <a:xfrm>
                <a:off x="3492360" y="3284640"/>
                <a:ext cx="101124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胃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部分切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R-Y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再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テキスト ボックス 15"/>
              <p:cNvSpPr/>
              <p:nvPr/>
            </p:nvSpPr>
            <p:spPr>
              <a:xfrm>
                <a:off x="1979640" y="170028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3" name="直線矢印コネクタ 4"/>
              <p:cNvCxnSpPr/>
              <p:nvPr/>
            </p:nvCxnSpPr>
            <p:spPr>
              <a:xfrm>
                <a:off x="323280" y="1988640"/>
                <a:ext cx="849672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04" name="角丸四角形 9"/>
              <p:cNvSpPr/>
              <p:nvPr/>
            </p:nvSpPr>
            <p:spPr>
              <a:xfrm>
                <a:off x="1576440" y="2182680"/>
                <a:ext cx="1771560" cy="406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食道癌に対し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曲折矢印 41"/>
            <p:cNvSpPr/>
            <p:nvPr/>
          </p:nvSpPr>
          <p:spPr>
            <a:xfrm flipH="1" rot="10800000">
              <a:off x="2405160" y="4841640"/>
              <a:ext cx="358560" cy="647640"/>
            </a:xfrm>
            <a:custGeom>
              <a:avLst/>
              <a:gdLst/>
              <a:ahLst/>
              <a:rect l="l" t="t" r="r" b="b"/>
              <a:pathLst>
                <a:path w="358834" h="647765">
                  <a:moveTo>
                    <a:pt x="0" y="647765"/>
                  </a:moveTo>
                  <a:lnTo>
                    <a:pt x="0" y="201844"/>
                  </a:lnTo>
                  <a:cubicBezTo>
                    <a:pt x="0" y="115141"/>
                    <a:pt x="70287" y="44854"/>
                    <a:pt x="156990" y="44854"/>
                  </a:cubicBezTo>
                  <a:lnTo>
                    <a:pt x="269126" y="44854"/>
                  </a:lnTo>
                  <a:lnTo>
                    <a:pt x="269126" y="0"/>
                  </a:lnTo>
                  <a:lnTo>
                    <a:pt x="358834" y="89709"/>
                  </a:lnTo>
                  <a:lnTo>
                    <a:pt x="269126" y="179417"/>
                  </a:lnTo>
                  <a:lnTo>
                    <a:pt x="269126" y="134563"/>
                  </a:lnTo>
                  <a:lnTo>
                    <a:pt x="156990" y="134563"/>
                  </a:lnTo>
                  <a:cubicBezTo>
                    <a:pt x="119832" y="134563"/>
                    <a:pt x="89709" y="164686"/>
                    <a:pt x="89709" y="201844"/>
                  </a:cubicBezTo>
                  <a:lnTo>
                    <a:pt x="89709" y="647765"/>
                  </a:lnTo>
                  <a:lnTo>
                    <a:pt x="0" y="64776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曲折矢印 42"/>
            <p:cNvSpPr/>
            <p:nvPr/>
          </p:nvSpPr>
          <p:spPr>
            <a:xfrm flipH="1" rot="10800000">
              <a:off x="5723280" y="4005360"/>
              <a:ext cx="360360" cy="576000"/>
            </a:xfrm>
            <a:custGeom>
              <a:avLst/>
              <a:gdLst/>
              <a:ahLst/>
              <a:rect l="l" t="t" r="r" b="b"/>
              <a:pathLst>
                <a:path w="360422" h="576320">
                  <a:moveTo>
                    <a:pt x="0" y="576320"/>
                  </a:moveTo>
                  <a:lnTo>
                    <a:pt x="0" y="202737"/>
                  </a:lnTo>
                  <a:cubicBezTo>
                    <a:pt x="0" y="115650"/>
                    <a:pt x="70598" y="45052"/>
                    <a:pt x="157685" y="45052"/>
                  </a:cubicBezTo>
                  <a:lnTo>
                    <a:pt x="270317" y="45053"/>
                  </a:lnTo>
                  <a:lnTo>
                    <a:pt x="270317" y="0"/>
                  </a:lnTo>
                  <a:lnTo>
                    <a:pt x="360422" y="90106"/>
                  </a:lnTo>
                  <a:lnTo>
                    <a:pt x="270317" y="180211"/>
                  </a:lnTo>
                  <a:lnTo>
                    <a:pt x="270317" y="135158"/>
                  </a:lnTo>
                  <a:lnTo>
                    <a:pt x="157685" y="135158"/>
                  </a:lnTo>
                  <a:cubicBezTo>
                    <a:pt x="120362" y="135158"/>
                    <a:pt x="90106" y="165414"/>
                    <a:pt x="90106" y="202737"/>
                  </a:cubicBezTo>
                  <a:lnTo>
                    <a:pt x="90106" y="576320"/>
                  </a:lnTo>
                  <a:lnTo>
                    <a:pt x="0" y="576320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直線コネクタ 45"/>
          <p:cNvSpPr/>
          <p:nvPr/>
        </p:nvSpPr>
        <p:spPr>
          <a:xfrm>
            <a:off x="2411280" y="2008080"/>
            <a:ext cx="0" cy="1605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テキスト ボックス 3"/>
          <p:cNvSpPr/>
          <p:nvPr/>
        </p:nvSpPr>
        <p:spPr>
          <a:xfrm>
            <a:off x="4832640" y="941400"/>
            <a:ext cx="319824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再発食道癌に対する光線力学療法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(P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テキスト ボックス 56"/>
          <p:cNvSpPr/>
          <p:nvPr/>
        </p:nvSpPr>
        <p:spPr>
          <a:xfrm>
            <a:off x="2004120" y="1476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05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テキスト ボックス 56"/>
          <p:cNvSpPr/>
          <p:nvPr/>
        </p:nvSpPr>
        <p:spPr>
          <a:xfrm>
            <a:off x="108000" y="1482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1980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線コネクタ 54"/>
          <p:cNvSpPr/>
          <p:nvPr/>
        </p:nvSpPr>
        <p:spPr>
          <a:xfrm flipV="1">
            <a:off x="554040" y="200772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角丸四角形 58"/>
          <p:cNvSpPr/>
          <p:nvPr/>
        </p:nvSpPr>
        <p:spPr>
          <a:xfrm>
            <a:off x="34920" y="2800440"/>
            <a:ext cx="102384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胃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幽門側胃切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Billroth-II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テキスト ボックス 56"/>
          <p:cNvSpPr/>
          <p:nvPr/>
        </p:nvSpPr>
        <p:spPr>
          <a:xfrm>
            <a:off x="3547080" y="14828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14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25"/>
          <p:cNvSpPr/>
          <p:nvPr/>
        </p:nvSpPr>
        <p:spPr>
          <a:xfrm>
            <a:off x="5607720" y="148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角丸四角形 73"/>
          <p:cNvSpPr/>
          <p:nvPr/>
        </p:nvSpPr>
        <p:spPr>
          <a:xfrm>
            <a:off x="5364000" y="2171880"/>
            <a:ext cx="1463760" cy="38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後食道癌再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線コネクタ 74"/>
          <p:cNvSpPr/>
          <p:nvPr/>
        </p:nvSpPr>
        <p:spPr>
          <a:xfrm>
            <a:off x="6084720" y="1989000"/>
            <a:ext cx="0" cy="1605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角丸四角形 78"/>
          <p:cNvSpPr/>
          <p:nvPr/>
        </p:nvSpPr>
        <p:spPr>
          <a:xfrm>
            <a:off x="6105600" y="4260960"/>
            <a:ext cx="13255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全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て転移は指摘され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25"/>
          <p:cNvSpPr/>
          <p:nvPr/>
        </p:nvSpPr>
        <p:spPr>
          <a:xfrm>
            <a:off x="7295400" y="148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テキスト ボックス 32"/>
          <p:cNvSpPr/>
          <p:nvPr/>
        </p:nvSpPr>
        <p:spPr>
          <a:xfrm>
            <a:off x="7526160" y="1700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曲折矢印 44"/>
          <p:cNvSpPr/>
          <p:nvPr/>
        </p:nvSpPr>
        <p:spPr>
          <a:xfrm flipH="1" rot="5400000">
            <a:off x="7343640" y="4107240"/>
            <a:ext cx="505080" cy="344520"/>
          </a:xfrm>
          <a:custGeom>
            <a:avLst/>
            <a:gdLst/>
            <a:ahLst/>
            <a:rect l="l" t="t" r="r" b="b"/>
            <a:pathLst>
              <a:path w="504825" h="344487">
                <a:moveTo>
                  <a:pt x="0" y="344487"/>
                </a:moveTo>
                <a:lnTo>
                  <a:pt x="0" y="193774"/>
                </a:lnTo>
                <a:cubicBezTo>
                  <a:pt x="0" y="110538"/>
                  <a:pt x="67477" y="43061"/>
                  <a:pt x="150713" y="43061"/>
                </a:cubicBezTo>
                <a:lnTo>
                  <a:pt x="418703" y="43061"/>
                </a:lnTo>
                <a:lnTo>
                  <a:pt x="418703" y="0"/>
                </a:lnTo>
                <a:lnTo>
                  <a:pt x="504825" y="86122"/>
                </a:lnTo>
                <a:lnTo>
                  <a:pt x="418703" y="172244"/>
                </a:lnTo>
                <a:lnTo>
                  <a:pt x="418703" y="129183"/>
                </a:lnTo>
                <a:lnTo>
                  <a:pt x="150713" y="129183"/>
                </a:lnTo>
                <a:cubicBezTo>
                  <a:pt x="115040" y="129183"/>
                  <a:pt x="86122" y="158101"/>
                  <a:pt x="86122" y="193774"/>
                </a:cubicBezTo>
                <a:lnTo>
                  <a:pt x="86122" y="344487"/>
                </a:lnTo>
                <a:lnTo>
                  <a:pt x="0" y="344487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03280" y="1125360"/>
            <a:ext cx="2664000" cy="567396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テキスト ボックス 4"/>
          <p:cNvSpPr/>
          <p:nvPr/>
        </p:nvSpPr>
        <p:spPr>
          <a:xfrm>
            <a:off x="4932360" y="804960"/>
            <a:ext cx="4116240" cy="5397480"/>
          </a:xfrm>
          <a:custGeom>
            <a:avLst/>
            <a:gdLst>
              <a:gd name="textAreaLeft" fmla="*/ 200880 w 4116240"/>
              <a:gd name="textAreaRight" fmla="*/ 3915360 w 4116240"/>
              <a:gd name="textAreaTop" fmla="*/ 200880 h 5397480"/>
              <a:gd name="textAreaBottom" fmla="*/ 5196600 h 5397480"/>
            </a:gdLst>
            <a:ahLst/>
            <a:rect l="textAreaLeft" t="textAreaTop" r="textAreaRight" b="textAreaBottom"/>
            <a:pathLst>
              <a:path w="21600" h="28323">
                <a:moveTo>
                  <a:pt x="3600" y="0"/>
                </a:moveTo>
                <a:arcTo wR="3600" hR="3600" stAng="16200000" swAng="-5400000"/>
                <a:lnTo>
                  <a:pt x="0" y="24723"/>
                </a:lnTo>
                <a:arcTo wR="3600" hR="3600" stAng="10800000" swAng="-5400000"/>
                <a:lnTo>
                  <a:pt x="18000" y="28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体温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36.4℃, SpO2: 98%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脈拍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79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min,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血圧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17/70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飲酒歴：ウイスキー水割り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杯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喫煙歴：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歳まで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特記事項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98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頃胃癌手術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Billroth-II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法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0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直腸癌手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食道癌（切歯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0-32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下行結腸癌手術、人工肛門造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胃癌手術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R-Y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法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8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食道癌（切歯列より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0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E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アレルギー】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レボチロキシ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甲状腺ホルモン製剤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ジスチグミ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末梢性コリンエステラーゼ阻害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ロスバスタチ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HMG-Co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還元酵素阻害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テプレノ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防御因子増強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シロドシ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α1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遮断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ラタノプロス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プロスタグランジ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F2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誘導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角丸四角形吹き出し 5"/>
          <p:cNvSpPr/>
          <p:nvPr/>
        </p:nvSpPr>
        <p:spPr>
          <a:xfrm>
            <a:off x="795240" y="900000"/>
            <a:ext cx="1727280" cy="935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瞼結膜：貧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球結膜：黄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角丸四角形吹き出し 11"/>
          <p:cNvSpPr/>
          <p:nvPr/>
        </p:nvSpPr>
        <p:spPr>
          <a:xfrm>
            <a:off x="108000" y="2112840"/>
            <a:ext cx="2413080" cy="79236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R: 77, BP: 154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角丸四角形吹き出し 27"/>
          <p:cNvSpPr/>
          <p:nvPr/>
        </p:nvSpPr>
        <p:spPr>
          <a:xfrm>
            <a:off x="1187280" y="5603760"/>
            <a:ext cx="115272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角丸四角形吹き出し 16"/>
          <p:cNvSpPr/>
          <p:nvPr/>
        </p:nvSpPr>
        <p:spPr>
          <a:xfrm>
            <a:off x="755640" y="3227400"/>
            <a:ext cx="1515960" cy="10335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手掌紅斑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線コネクタ 3"/>
          <p:cNvSpPr/>
          <p:nvPr/>
        </p:nvSpPr>
        <p:spPr>
          <a:xfrm>
            <a:off x="2987640" y="3413160"/>
            <a:ext cx="2160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線コネクタ 7"/>
          <p:cNvSpPr/>
          <p:nvPr/>
        </p:nvSpPr>
        <p:spPr>
          <a:xfrm flipH="1">
            <a:off x="2655360" y="3413160"/>
            <a:ext cx="71640" cy="5205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線コネクタ 9"/>
          <p:cNvSpPr/>
          <p:nvPr/>
        </p:nvSpPr>
        <p:spPr>
          <a:xfrm>
            <a:off x="2521080" y="3211560"/>
            <a:ext cx="17928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線コネクタ 18"/>
          <p:cNvSpPr/>
          <p:nvPr/>
        </p:nvSpPr>
        <p:spPr>
          <a:xfrm>
            <a:off x="2484360" y="3363840"/>
            <a:ext cx="1778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線コネクタ 19"/>
          <p:cNvSpPr/>
          <p:nvPr/>
        </p:nvSpPr>
        <p:spPr>
          <a:xfrm>
            <a:off x="2405160" y="3629160"/>
            <a:ext cx="222120" cy="158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テキスト ボックス 11"/>
          <p:cNvSpPr/>
          <p:nvPr/>
        </p:nvSpPr>
        <p:spPr>
          <a:xfrm>
            <a:off x="154080" y="2546280"/>
            <a:ext cx="857160" cy="5079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治療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入院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角丸四角形 27"/>
          <p:cNvSpPr/>
          <p:nvPr/>
        </p:nvSpPr>
        <p:spPr>
          <a:xfrm>
            <a:off x="154080" y="4221000"/>
            <a:ext cx="8810640" cy="19638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合併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出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穿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皮膚障害（レザフェリン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（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5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年生のまと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角丸四角形 7"/>
          <p:cNvSpPr/>
          <p:nvPr/>
        </p:nvSpPr>
        <p:spPr>
          <a:xfrm>
            <a:off x="108000" y="933480"/>
            <a:ext cx="4392720" cy="15588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ゴシック"/>
              </a:rPr>
              <a:t>適応、奏効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もしく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後の局所遺残再発食道癌（転移なし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T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以下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c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以下、半周以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完全奏効率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ゴシック"/>
              </a:rPr>
              <a:t>禁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タラポルフィンナトリウム過敏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ポルフィリン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放射線治療前の原発巣の大動脈への直接浸潤ありの症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角丸四角形 12"/>
          <p:cNvSpPr/>
          <p:nvPr/>
        </p:nvSpPr>
        <p:spPr>
          <a:xfrm>
            <a:off x="4572000" y="933480"/>
            <a:ext cx="4471920" cy="15588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照射当日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(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当日朝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タラポルフィンナトリウム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0mg/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静脈内投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4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6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時間後（当日午後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レーザー照射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照射あたり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分間）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J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24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時間後（翌日朝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内視鏡観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必要に応じて追加照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266920" y="4317840"/>
          <a:ext cx="6481800" cy="1775160"/>
        </p:xfrm>
        <a:graphic>
          <a:graphicData uri="http://schemas.openxmlformats.org/drawingml/2006/table">
            <a:tbl>
              <a:tblPr/>
              <a:tblGrid>
                <a:gridCol w="925560"/>
                <a:gridCol w="927000"/>
                <a:gridCol w="925560"/>
                <a:gridCol w="925560"/>
                <a:gridCol w="762120"/>
                <a:gridCol w="163440"/>
                <a:gridCol w="927000"/>
                <a:gridCol w="92556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施行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9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レーザー照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必要に応じて追加照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追加照射した場合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観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観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食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絶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絶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流動食から開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遮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0lux</a:t>
                      </a: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以下の遮光制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光線過敏試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解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741" name="図 8" descr=""/>
          <p:cNvPicPr/>
          <p:nvPr/>
        </p:nvPicPr>
        <p:blipFill>
          <a:blip r:embed="rId1"/>
          <a:srcRect l="11446" t="13594" r="8929" b="16812"/>
          <a:stretch/>
        </p:blipFill>
        <p:spPr>
          <a:xfrm>
            <a:off x="5191200" y="2576520"/>
            <a:ext cx="1806480" cy="1579680"/>
          </a:xfrm>
          <a:prstGeom prst="rect">
            <a:avLst/>
          </a:prstGeom>
          <a:ln w="0">
            <a:noFill/>
          </a:ln>
        </p:spPr>
      </p:pic>
      <p:pic>
        <p:nvPicPr>
          <p:cNvPr id="742" name="図 9" descr=""/>
          <p:cNvPicPr/>
          <p:nvPr/>
        </p:nvPicPr>
        <p:blipFill>
          <a:blip r:embed="rId2"/>
          <a:srcRect l="29653" t="24287" r="12092" b="24796"/>
          <a:stretch/>
        </p:blipFill>
        <p:spPr>
          <a:xfrm>
            <a:off x="1200240" y="2576520"/>
            <a:ext cx="1807920" cy="1581120"/>
          </a:xfrm>
          <a:prstGeom prst="rect">
            <a:avLst/>
          </a:prstGeom>
          <a:ln w="0">
            <a:noFill/>
          </a:ln>
        </p:spPr>
      </p:pic>
      <p:pic>
        <p:nvPicPr>
          <p:cNvPr id="743" name="図 10" descr=""/>
          <p:cNvPicPr/>
          <p:nvPr/>
        </p:nvPicPr>
        <p:blipFill>
          <a:blip r:embed="rId3"/>
          <a:srcRect l="12188" t="12907" r="7242" b="16669"/>
          <a:stretch/>
        </p:blipFill>
        <p:spPr>
          <a:xfrm>
            <a:off x="3197160" y="2576520"/>
            <a:ext cx="1808280" cy="1579680"/>
          </a:xfrm>
          <a:prstGeom prst="rect">
            <a:avLst/>
          </a:prstGeom>
          <a:ln w="0">
            <a:noFill/>
          </a:ln>
        </p:spPr>
      </p:pic>
      <p:pic>
        <p:nvPicPr>
          <p:cNvPr id="744" name="図 10" descr=""/>
          <p:cNvPicPr/>
          <p:nvPr/>
        </p:nvPicPr>
        <p:blipFill>
          <a:blip r:embed="rId4"/>
          <a:srcRect l="29653" t="24696" r="11933" b="24593"/>
          <a:stretch/>
        </p:blipFill>
        <p:spPr>
          <a:xfrm>
            <a:off x="7183440" y="2581200"/>
            <a:ext cx="1806480" cy="1568520"/>
          </a:xfrm>
          <a:prstGeom prst="rect">
            <a:avLst/>
          </a:prstGeom>
          <a:ln w="0">
            <a:noFill/>
          </a:ln>
        </p:spPr>
      </p:pic>
      <p:cxnSp>
        <p:nvCxnSpPr>
          <p:cNvPr id="745" name="直線矢印コネクタ 3"/>
          <p:cNvCxnSpPr/>
          <p:nvPr/>
        </p:nvCxnSpPr>
        <p:spPr>
          <a:xfrm flipV="1">
            <a:off x="3708000" y="4155480"/>
            <a:ext cx="72360" cy="16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6" name="直線矢印コネクタ 5"/>
          <p:cNvCxnSpPr/>
          <p:nvPr/>
        </p:nvCxnSpPr>
        <p:spPr>
          <a:xfrm flipV="1">
            <a:off x="4572000" y="4155480"/>
            <a:ext cx="619920" cy="16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7" name="直線矢印コネクタ 8"/>
          <p:cNvCxnSpPr/>
          <p:nvPr/>
        </p:nvCxnSpPr>
        <p:spPr>
          <a:xfrm flipV="1">
            <a:off x="6443280" y="4149000"/>
            <a:ext cx="740520" cy="16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8" name="直線矢印コネクタ 10"/>
          <p:cNvCxnSpPr/>
          <p:nvPr/>
        </p:nvCxnSpPr>
        <p:spPr>
          <a:xfrm>
            <a:off x="1010880" y="3068280"/>
            <a:ext cx="189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12:52Z</dcterms:modified>
  <cp:revision>124</cp:revision>
  <dc:subject/>
  <dc:title>肝胆膵病態学総論</dc:title>
</cp:coreProperties>
</file>