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7B0-066C-43FC-9E1F-57D1B51C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73B-9F74-4B20-B30C-2E2BA240E4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ノプラザン（タケキャブ）→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リメブチン　→　胃腸薬（慢性胃炎、過敏性腸症候群：腸の動きを正常化す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コバラミン（メチコバール）→　ビタミ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製剤（末梢神経障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モサプリド　→　副交感神経刺激薬（消化管運動亢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酪酸塩（ビオスリー）→　整腸剤（下痢、便秘、腹部膨満：乳酸菌を補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レカバリン（リリカ）→　鎮痛（中枢神経系において神経細胞を興奮させ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イオンの流入を抑え、興奮性神経伝達物質の過剰な放出を抑え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酸化マグネシウム　→　排便を促す（塩類下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ジメモルファリン（アストミン錠）→　鎮咳薬（咳中枢の抑制、気道拡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エピナスチン　→　抗ヒスタミン薬（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5588-14B8-45EF-900E-FC5959370C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P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シスプラチン製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118-BB4C-4C91-8A77-E7FC827DA4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1739B-5FE4-494D-BD20-ADA24BB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05502-3518-4BBE-8621-65ED343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AAAE5-CA7E-4E43-97E4-CF994ADC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AD8AE-3AB3-4597-8BFB-B8FF32D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D9190-2B8B-41C9-9ACC-81274365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471FD-CCDC-4225-95C2-7F31590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01D9C-A162-4D71-9803-E030F2B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134EA-707B-4953-9D0B-14411CA3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5E773-9240-420B-AD13-9BFEAFEB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B0E09-19FE-40EC-9C75-920670B53C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9F3C6-CE62-4AC3-8CBD-4A9DCD0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51470-C725-4982-86E2-583945F8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16107-951E-45DC-908D-7EFF5276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1A114-57CA-4CD9-B4E0-7CE731B9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3EE10B-2F63-4EF8-BEC4-C5114199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97A08-14F4-4B0C-B2F2-704C7A9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D0CC0A-87AF-43F2-B937-5E40C4B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B3056-2257-482C-B4BC-5CBE376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A4224-4E31-441E-942E-097C158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42179-C540-49CA-A48D-D7128A4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23301-1F9C-49D8-A182-E2A8113E9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D4FB-1078-4506-B8E0-04EABDFDD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884F-8FC8-4904-96FE-62492486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8E4C-15C5-4DE4-B63D-0B72BE6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7332-3D18-4824-BE26-9C1860AB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89EE-3CFA-4EB0-9028-0B68E73D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F088E-A471-4144-B3CA-9183C619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BF1E-43F4-4144-A233-C6372D42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53685-10C0-4290-95CB-1BA19A57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22C4-A302-4F0D-AA3E-C8EECAF5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C6DDA-B0ED-41E6-8B0C-A81C4A8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B6C3-9517-4036-B16E-D79204B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0066-6BDC-4523-B33F-AD1B971F58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C7FA-D798-41B6-9B73-8472474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6498-B8A1-42F1-89EE-4D029059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56CA2-2A55-49E8-986B-6F2E95D8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732B8-7821-4D1A-B85B-96CAC3B7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17F3-4CED-449E-AA88-C0E9299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4CF1-745D-41E5-9F2C-C0BBECD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D962-5171-408E-BE37-AAF7749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35464-8551-41AF-812A-B1C41BD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000A-1D9B-48C4-80E6-7CBA209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EAE8-4E52-4D00-868A-41A3044F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E4FF-DA14-4830-AEBB-D6C745C1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EDF1-2867-40E3-A55D-D0238993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FC51-1B81-49EB-BCC3-07AD00B7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FED7-42D4-44CF-851C-38653C4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FE75-9084-4792-9778-9E3CBF6E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843C0-F6AA-4042-ACB2-583B0BC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24FC-2EAE-4742-90C3-B4D2161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A6690-FFA1-4C6E-A378-ABDAC67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D490-E956-4491-AF71-80BF2DE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18D6-A68E-46CF-BA0E-5C8F675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3D12-02FC-4B2B-976E-0C37568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F1A6-0E9C-4F99-B654-4740C75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59C7-FDC8-42D2-8261-8662F893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C7E1-1A4E-4BA4-A4E1-9634238D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98DC3-CFFC-4A61-98DF-9B3C713A2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07F32-AC82-4620-A801-837FF21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5CBEB-21F9-4271-9787-89A6D70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6C5CD8-5144-47A9-9A46-4F395C1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70FB9-2547-4227-81EA-CA5CC03D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6779E-46B0-4C89-B7F0-2BCAAE0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BC3A3-6317-49DD-8F9A-BD3BF309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C446B-7D7A-4886-8846-D1A9F80A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B88D0-0AE2-41E1-9FDD-D24B658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C0330-E33D-408E-9CB8-472F89C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C7551-C157-42E3-AAC1-8D4319D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167A56-D84E-4BC9-BF26-471E6AA5B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2D64-483F-4169-B038-C5A654A45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A3DB-D8F9-405E-81F4-107BC7A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8058-4D4E-4CAD-94A4-398709DC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5517-8C8E-4A74-90B1-31F51E65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186F-5846-4E85-A49A-D3E53B2B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E8B9-251A-4DE8-96E7-330AA460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E063-4602-4789-9F88-95A5E77B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086B-B1FA-4820-9DDA-3905AAFC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1139-29EB-4F12-94E8-7D963547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3FFA-9981-4672-916B-A6EFC2E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C5AD-96EA-45AE-8C7F-4DF407D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F546-BA22-4411-9431-D3F677D71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89C06-7FB1-4435-9790-B9D179C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C984E-DF0E-4A5E-A4C5-FDCC317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D907-989D-4F5C-A4C8-F27AE5C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ABFFC-F986-4D5D-A257-8A9A6B4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E0570-4649-4C55-9C5B-78B2C32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D9ACE-4256-44AF-9994-13662C2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716FE-CD96-4121-BB6A-D993F38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02FCE-D0F7-405A-BE86-FFB2467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50370-D2E3-407F-A420-7E260B3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416A7-0534-4E52-A5F4-4761245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B2F2-34E3-4BC2-8B22-E6562FF4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C4C43-C4D0-4533-AEC1-F9E70DA2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C47A-1ACF-4708-B2EA-C29B0EFB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1963F-A554-4A7A-BA0A-5714DC65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B6339-F853-42F5-8497-435E8D8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EE02B-1F91-487A-A354-5ABCD7A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8FEA8-C4B6-4832-80D4-256A5D5D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5703F-A355-4F02-ACDF-96E7A4A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6E8B1-21F8-47A2-A3C0-F6F6009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39DD4-387E-44C4-A41C-20EF69A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23E1A-EE0C-4FEB-A9A5-5FD44CB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5DA7A-F0CF-429B-9C9D-CF741BD5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7B802-7DBE-4D58-B391-4B672E16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27A56-1073-4C89-AC46-4025DE1E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8A0D0-45B1-4E3E-A97B-B0FF8959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8D553-88AA-4380-99FD-1261B77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5E232-A2B3-440C-ACD6-B6A8FB8D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8E2EF-56F4-401A-B985-3410065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2BDAA-9361-453F-8B80-939BFF7C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B00F8-676C-4B4A-8B14-DF965FE5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EF659-E515-473C-8DBE-DF4C67F5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E3D91-13CE-4761-A413-B88FE3A1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7F056-0C19-4060-ABAF-E8A543E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C9CE5-79D2-4D8D-B8B6-A6334D87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93517-DDF5-4FB8-9AA8-78E9AD03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56070-0DB4-4668-87B3-8A834A73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33059-E1EB-4026-8CA7-6F291535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87E92-A120-4355-8E84-F9F0B3A7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50F37-7FDB-47E6-92A8-5ED305F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8E92-F278-4F3E-B1F5-10B9A43EC04A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5D0C-D604-4FD2-AF34-6448DD1DAAC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600A-53D6-4A34-B195-B87FF1CD69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BE2-25D3-4F13-AB5F-465CC411F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A57-DB5A-4454-AD0A-F731BBB845F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CA3F-6AF6-416F-B5E3-9A51A2E4CC41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F88-7FA7-4BBE-98E1-62983567F62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B7D-7679-4D46-AF14-C279D7C5A1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2BC7-A355-4BC7-9ABA-1C00C609F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DB9-F08F-44D9-BD5E-285C26C9D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33ED-B501-4B56-A24A-FD882B2DE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63F-6AFE-4414-9B31-4125A9622BF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629800" y="144468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多発肝細胞癌に対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TACE</a:t>
            </a: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を施行した一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テキスト ボックス 3"/>
          <p:cNvSpPr/>
          <p:nvPr/>
        </p:nvSpPr>
        <p:spPr>
          <a:xfrm>
            <a:off x="6300720" y="871560"/>
            <a:ext cx="215100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　再発する肝細胞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テキスト ボックス 56"/>
          <p:cNvSpPr/>
          <p:nvPr/>
        </p:nvSpPr>
        <p:spPr>
          <a:xfrm>
            <a:off x="58608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9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グループ化 7"/>
          <p:cNvGrpSpPr/>
          <p:nvPr/>
        </p:nvGrpSpPr>
        <p:grpSpPr>
          <a:xfrm>
            <a:off x="95400" y="1657440"/>
            <a:ext cx="8622720" cy="3332160"/>
            <a:chOff x="95400" y="1657440"/>
            <a:chExt cx="8622720" cy="3332160"/>
          </a:xfrm>
        </p:grpSpPr>
        <p:sp>
          <p:nvSpPr>
            <p:cNvPr id="687" name="角丸四角形 9"/>
            <p:cNvSpPr/>
            <p:nvPr/>
          </p:nvSpPr>
          <p:spPr>
            <a:xfrm>
              <a:off x="468360" y="2882880"/>
              <a:ext cx="121104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TAE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施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（当院放射線科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グループ化 5"/>
            <p:cNvGrpSpPr/>
            <p:nvPr/>
          </p:nvGrpSpPr>
          <p:grpSpPr>
            <a:xfrm>
              <a:off x="95400" y="1657440"/>
              <a:ext cx="8622720" cy="3332160"/>
              <a:chOff x="95400" y="1657440"/>
              <a:chExt cx="8622720" cy="3332160"/>
            </a:xfrm>
          </p:grpSpPr>
          <p:sp>
            <p:nvSpPr>
              <p:cNvPr id="689" name="直線コネクタ 77"/>
              <p:cNvSpPr/>
              <p:nvPr/>
            </p:nvSpPr>
            <p:spPr>
              <a:xfrm>
                <a:off x="7667640" y="2000160"/>
                <a:ext cx="0" cy="11397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直線コネクタ 51"/>
              <p:cNvSpPr/>
              <p:nvPr/>
            </p:nvSpPr>
            <p:spPr>
              <a:xfrm>
                <a:off x="2882880" y="2860560"/>
                <a:ext cx="7920" cy="1216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線コネクタ 53"/>
              <p:cNvSpPr/>
              <p:nvPr/>
            </p:nvSpPr>
            <p:spPr>
              <a:xfrm>
                <a:off x="3967200" y="1993680"/>
                <a:ext cx="0" cy="2562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線コネクタ 55"/>
              <p:cNvSpPr/>
              <p:nvPr/>
            </p:nvSpPr>
            <p:spPr>
              <a:xfrm>
                <a:off x="5867640" y="1987560"/>
                <a:ext cx="0" cy="12650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線コネクタ 57"/>
              <p:cNvSpPr/>
              <p:nvPr/>
            </p:nvSpPr>
            <p:spPr>
              <a:xfrm>
                <a:off x="4788000" y="1987560"/>
                <a:ext cx="0" cy="55692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線コネクタ 59"/>
              <p:cNvSpPr/>
              <p:nvPr/>
            </p:nvSpPr>
            <p:spPr>
              <a:xfrm>
                <a:off x="6443640" y="1989000"/>
                <a:ext cx="0" cy="17398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線コネクタ 61"/>
              <p:cNvSpPr/>
              <p:nvPr/>
            </p:nvSpPr>
            <p:spPr>
              <a:xfrm>
                <a:off x="7093080" y="1989000"/>
                <a:ext cx="0" cy="703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線コネクタ 48"/>
              <p:cNvSpPr/>
              <p:nvPr/>
            </p:nvSpPr>
            <p:spPr>
              <a:xfrm>
                <a:off x="2881440" y="1989000"/>
                <a:ext cx="0" cy="555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角丸四角形 33"/>
              <p:cNvSpPr/>
              <p:nvPr/>
            </p:nvSpPr>
            <p:spPr>
              <a:xfrm>
                <a:off x="7812360" y="3589560"/>
                <a:ext cx="865080" cy="415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TACE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（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S7,S8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7"/>
              <p:cNvSpPr/>
              <p:nvPr/>
            </p:nvSpPr>
            <p:spPr>
              <a:xfrm>
                <a:off x="2368440" y="4077000"/>
                <a:ext cx="115236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消化器内科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紹介受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23"/>
              <p:cNvSpPr/>
              <p:nvPr/>
            </p:nvSpPr>
            <p:spPr>
              <a:xfrm>
                <a:off x="1135080" y="3414960"/>
                <a:ext cx="12762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腹腔鏡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肝部分切除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当院外科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角丸四角形 13"/>
              <p:cNvSpPr/>
              <p:nvPr/>
            </p:nvSpPr>
            <p:spPr>
              <a:xfrm>
                <a:off x="4156200" y="2347920"/>
                <a:ext cx="1357200" cy="58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８単発を指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直線矢印コネクタ 4"/>
              <p:cNvCxnSpPr/>
              <p:nvPr/>
            </p:nvCxnSpPr>
            <p:spPr>
              <a:xfrm>
                <a:off x="221760" y="196020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2" name="角丸四角形 28"/>
              <p:cNvSpPr/>
              <p:nvPr/>
            </p:nvSpPr>
            <p:spPr>
              <a:xfrm>
                <a:off x="6524640" y="2357280"/>
                <a:ext cx="16063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7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曲折矢印 40"/>
              <p:cNvSpPr/>
              <p:nvPr/>
            </p:nvSpPr>
            <p:spPr>
              <a:xfrm flipH="1" rot="10800000">
                <a:off x="3206880" y="4516560"/>
                <a:ext cx="288720" cy="287280"/>
              </a:xfrm>
              <a:custGeom>
                <a:avLst/>
                <a:gdLst/>
                <a:ahLst/>
                <a:rect l="l" t="t" r="r" b="b"/>
                <a:pathLst>
                  <a:path w="288925" h="287337">
                    <a:moveTo>
                      <a:pt x="0" y="287337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7091" y="35917"/>
                    </a:lnTo>
                    <a:lnTo>
                      <a:pt x="217091" y="0"/>
                    </a:lnTo>
                    <a:lnTo>
                      <a:pt x="288925" y="71834"/>
                    </a:lnTo>
                    <a:lnTo>
                      <a:pt x="217091" y="143669"/>
                    </a:lnTo>
                    <a:lnTo>
                      <a:pt x="217091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287337"/>
                    </a:lnTo>
                    <a:lnTo>
                      <a:pt x="0" y="287337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曲折矢印 41"/>
              <p:cNvSpPr/>
              <p:nvPr/>
            </p:nvSpPr>
            <p:spPr>
              <a:xfrm flipH="1" rot="10800000">
                <a:off x="5147280" y="2924280"/>
                <a:ext cx="276120" cy="379440"/>
              </a:xfrm>
              <a:custGeom>
                <a:avLst/>
                <a:gdLst/>
                <a:ahLst/>
                <a:rect l="l" t="t" r="r" b="b"/>
                <a:pathLst>
                  <a:path w="276225" h="379413">
                    <a:moveTo>
                      <a:pt x="0" y="379413"/>
                    </a:moveTo>
                    <a:lnTo>
                      <a:pt x="0" y="155377"/>
                    </a:lnTo>
                    <a:cubicBezTo>
                      <a:pt x="0" y="88634"/>
                      <a:pt x="54105" y="34529"/>
                      <a:pt x="120848" y="34529"/>
                    </a:cubicBezTo>
                    <a:lnTo>
                      <a:pt x="207169" y="34528"/>
                    </a:lnTo>
                    <a:lnTo>
                      <a:pt x="207169" y="0"/>
                    </a:lnTo>
                    <a:lnTo>
                      <a:pt x="276225" y="69056"/>
                    </a:lnTo>
                    <a:lnTo>
                      <a:pt x="207169" y="138113"/>
                    </a:lnTo>
                    <a:lnTo>
                      <a:pt x="207169" y="103584"/>
                    </a:lnTo>
                    <a:lnTo>
                      <a:pt x="120848" y="103584"/>
                    </a:lnTo>
                    <a:cubicBezTo>
                      <a:pt x="92244" y="103584"/>
                      <a:pt x="69056" y="126772"/>
                      <a:pt x="69056" y="155376"/>
                    </a:cubicBezTo>
                    <a:lnTo>
                      <a:pt x="69056" y="379413"/>
                    </a:lnTo>
                    <a:lnTo>
                      <a:pt x="0" y="37941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曲折矢印 42"/>
              <p:cNvSpPr/>
              <p:nvPr/>
            </p:nvSpPr>
            <p:spPr>
              <a:xfrm flipH="1" rot="10800000">
                <a:off x="5724720" y="3428640"/>
                <a:ext cx="288720" cy="360360"/>
              </a:xfrm>
              <a:custGeom>
                <a:avLst/>
                <a:gdLst/>
                <a:ahLst/>
                <a:rect l="l" t="t" r="r" b="b"/>
                <a:pathLst>
                  <a:path w="288925" h="360363">
                    <a:moveTo>
                      <a:pt x="0" y="360363"/>
                    </a:moveTo>
                    <a:lnTo>
                      <a:pt x="0" y="162520"/>
                    </a:lnTo>
                    <a:cubicBezTo>
                      <a:pt x="0" y="92708"/>
                      <a:pt x="56593" y="36115"/>
                      <a:pt x="126405" y="36115"/>
                    </a:cubicBezTo>
                    <a:lnTo>
                      <a:pt x="216694" y="36116"/>
                    </a:lnTo>
                    <a:lnTo>
                      <a:pt x="216694" y="0"/>
                    </a:lnTo>
                    <a:lnTo>
                      <a:pt x="288925" y="72231"/>
                    </a:lnTo>
                    <a:lnTo>
                      <a:pt x="216694" y="144463"/>
                    </a:lnTo>
                    <a:lnTo>
                      <a:pt x="216694" y="108347"/>
                    </a:lnTo>
                    <a:lnTo>
                      <a:pt x="126405" y="108347"/>
                    </a:lnTo>
                    <a:cubicBezTo>
                      <a:pt x="96486" y="108347"/>
                      <a:pt x="72232" y="132601"/>
                      <a:pt x="72232" y="162520"/>
                    </a:cubicBezTo>
                    <a:cubicBezTo>
                      <a:pt x="72232" y="228468"/>
                      <a:pt x="72231" y="294415"/>
                      <a:pt x="72231" y="360363"/>
                    </a:cubicBez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曲折矢印 43"/>
              <p:cNvSpPr/>
              <p:nvPr/>
            </p:nvSpPr>
            <p:spPr>
              <a:xfrm flipH="1" rot="10800000">
                <a:off x="6948720" y="285264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7" h="358775">
                    <a:moveTo>
                      <a:pt x="0" y="358775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5503" y="35917"/>
                    </a:lnTo>
                    <a:lnTo>
                      <a:pt x="215503" y="0"/>
                    </a:lnTo>
                    <a:lnTo>
                      <a:pt x="287337" y="71834"/>
                    </a:lnTo>
                    <a:lnTo>
                      <a:pt x="215503" y="143669"/>
                    </a:lnTo>
                    <a:lnTo>
                      <a:pt x="215503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358775"/>
                    </a:ln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線コネクタ 46"/>
              <p:cNvSpPr/>
              <p:nvPr/>
            </p:nvSpPr>
            <p:spPr>
              <a:xfrm>
                <a:off x="1763640" y="1987560"/>
                <a:ext cx="7920" cy="14079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直線コネクタ 50"/>
              <p:cNvSpPr/>
              <p:nvPr/>
            </p:nvSpPr>
            <p:spPr>
              <a:xfrm>
                <a:off x="851040" y="1989000"/>
                <a:ext cx="0" cy="3092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グループ化 2"/>
              <p:cNvGrpSpPr/>
              <p:nvPr/>
            </p:nvGrpSpPr>
            <p:grpSpPr>
              <a:xfrm>
                <a:off x="95400" y="2306520"/>
                <a:ext cx="1530360" cy="850320"/>
                <a:chOff x="95400" y="2306520"/>
                <a:chExt cx="1530360" cy="850320"/>
              </a:xfrm>
            </p:grpSpPr>
            <p:sp>
              <p:nvSpPr>
                <p:cNvPr id="710" name="角丸四角形 13"/>
                <p:cNvSpPr/>
                <p:nvPr/>
              </p:nvSpPr>
              <p:spPr>
                <a:xfrm>
                  <a:off x="95400" y="2306520"/>
                  <a:ext cx="153036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肝細胞癌破裂による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腹腔内出血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曲折矢印 36"/>
                <p:cNvSpPr/>
                <p:nvPr/>
              </p:nvSpPr>
              <p:spPr>
                <a:xfrm flipH="1" rot="10800000">
                  <a:off x="177840" y="2796480"/>
                  <a:ext cx="277560" cy="360360"/>
                </a:xfrm>
                <a:custGeom>
                  <a:avLst/>
                  <a:gdLst/>
                  <a:ahLst/>
                  <a:rect l="l" t="t" r="r" b="b"/>
                  <a:pathLst>
                    <a:path w="287009" h="360419">
                      <a:moveTo>
                        <a:pt x="0" y="360419"/>
                      </a:moveTo>
                      <a:lnTo>
                        <a:pt x="0" y="161443"/>
                      </a:lnTo>
                      <a:cubicBezTo>
                        <a:pt x="0" y="92095"/>
                        <a:pt x="56218" y="35877"/>
                        <a:pt x="125566" y="35877"/>
                      </a:cubicBezTo>
                      <a:lnTo>
                        <a:pt x="215257" y="35876"/>
                      </a:lnTo>
                      <a:lnTo>
                        <a:pt x="215257" y="0"/>
                      </a:lnTo>
                      <a:lnTo>
                        <a:pt x="287009" y="71752"/>
                      </a:lnTo>
                      <a:lnTo>
                        <a:pt x="215257" y="143505"/>
                      </a:lnTo>
                      <a:lnTo>
                        <a:pt x="215257" y="107628"/>
                      </a:lnTo>
                      <a:lnTo>
                        <a:pt x="125566" y="107628"/>
                      </a:lnTo>
                      <a:cubicBezTo>
                        <a:pt x="95845" y="107628"/>
                        <a:pt x="71752" y="131721"/>
                        <a:pt x="71752" y="161442"/>
                      </a:cubicBezTo>
                      <a:lnTo>
                        <a:pt x="71752" y="360419"/>
                      </a:lnTo>
                      <a:lnTo>
                        <a:pt x="0" y="360419"/>
                      </a:lnTo>
                      <a:close/>
                    </a:path>
                  </a:pathLst>
                </a:custGeom>
                <a:solidFill>
                  <a:srgbClr val="4f6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曲折矢印 36"/>
              <p:cNvSpPr/>
              <p:nvPr/>
            </p:nvSpPr>
            <p:spPr>
              <a:xfrm flipH="1" rot="10800000">
                <a:off x="826920" y="3295440"/>
                <a:ext cx="279360" cy="360360"/>
              </a:xfrm>
              <a:custGeom>
                <a:avLst/>
                <a:gdLst/>
                <a:ahLst/>
                <a:rect l="l" t="t" r="r" b="b"/>
                <a:pathLst>
                  <a:path w="279400" h="360363">
                    <a:moveTo>
                      <a:pt x="0" y="360363"/>
                    </a:moveTo>
                    <a:lnTo>
                      <a:pt x="0" y="157163"/>
                    </a:lnTo>
                    <a:cubicBezTo>
                      <a:pt x="0" y="89653"/>
                      <a:pt x="54728" y="34925"/>
                      <a:pt x="122238" y="34925"/>
                    </a:cubicBezTo>
                    <a:lnTo>
                      <a:pt x="209550" y="34925"/>
                    </a:lnTo>
                    <a:lnTo>
                      <a:pt x="209550" y="0"/>
                    </a:lnTo>
                    <a:lnTo>
                      <a:pt x="279400" y="69850"/>
                    </a:lnTo>
                    <a:lnTo>
                      <a:pt x="209550" y="139700"/>
                    </a:lnTo>
                    <a:lnTo>
                      <a:pt x="209550" y="104775"/>
                    </a:lnTo>
                    <a:lnTo>
                      <a:pt x="122238" y="104775"/>
                    </a:lnTo>
                    <a:cubicBezTo>
                      <a:pt x="93305" y="104775"/>
                      <a:pt x="69850" y="128230"/>
                      <a:pt x="69850" y="157163"/>
                    </a:cubicBezTo>
                    <a:lnTo>
                      <a:pt x="69850" y="360363"/>
                    </a:ln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角丸四角形 13"/>
              <p:cNvSpPr/>
              <p:nvPr/>
            </p:nvSpPr>
            <p:spPr>
              <a:xfrm>
                <a:off x="1987560" y="2324160"/>
                <a:ext cx="1828800" cy="61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術後腫瘍マーカー高値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遷延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施行したところ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角丸四角形 9"/>
              <p:cNvSpPr/>
              <p:nvPr/>
            </p:nvSpPr>
            <p:spPr>
              <a:xfrm>
                <a:off x="3521160" y="455652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角丸四角形 9"/>
              <p:cNvSpPr/>
              <p:nvPr/>
            </p:nvSpPr>
            <p:spPr>
              <a:xfrm>
                <a:off x="5435640" y="3068640"/>
                <a:ext cx="928440" cy="35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治療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角丸四角形 9"/>
              <p:cNvSpPr/>
              <p:nvPr/>
            </p:nvSpPr>
            <p:spPr>
              <a:xfrm>
                <a:off x="7236000" y="299736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角丸四角形 9"/>
              <p:cNvSpPr/>
              <p:nvPr/>
            </p:nvSpPr>
            <p:spPr>
              <a:xfrm>
                <a:off x="6012000" y="3573720"/>
                <a:ext cx="8888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直線コネクタ 78"/>
              <p:cNvSpPr/>
              <p:nvPr/>
            </p:nvSpPr>
            <p:spPr>
              <a:xfrm>
                <a:off x="8210520" y="2000160"/>
                <a:ext cx="0" cy="157320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グループ化 2"/>
              <p:cNvGrpSpPr/>
              <p:nvPr/>
            </p:nvGrpSpPr>
            <p:grpSpPr>
              <a:xfrm>
                <a:off x="587520" y="1657440"/>
                <a:ext cx="7945560" cy="307080"/>
                <a:chOff x="587520" y="1657440"/>
                <a:chExt cx="7945560" cy="307080"/>
              </a:xfrm>
            </p:grpSpPr>
            <p:sp>
              <p:nvSpPr>
                <p:cNvPr id="720" name="テキスト ボックス 30"/>
                <p:cNvSpPr/>
                <p:nvPr/>
              </p:nvSpPr>
              <p:spPr>
                <a:xfrm>
                  <a:off x="4500720" y="165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0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テキスト ボックス 31"/>
                <p:cNvSpPr/>
                <p:nvPr/>
              </p:nvSpPr>
              <p:spPr>
                <a:xfrm>
                  <a:off x="55803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テキスト ボックス 32"/>
                <p:cNvSpPr/>
                <p:nvPr/>
              </p:nvSpPr>
              <p:spPr>
                <a:xfrm>
                  <a:off x="68709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5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テキスト ボックス 34"/>
                <p:cNvSpPr/>
                <p:nvPr/>
              </p:nvSpPr>
              <p:spPr>
                <a:xfrm>
                  <a:off x="6228000" y="1657440"/>
                  <a:ext cx="504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2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テキスト ボックス 15"/>
                <p:cNvSpPr/>
                <p:nvPr/>
              </p:nvSpPr>
              <p:spPr>
                <a:xfrm>
                  <a:off x="154800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テキスト ボックス 16"/>
                <p:cNvSpPr/>
                <p:nvPr/>
              </p:nvSpPr>
              <p:spPr>
                <a:xfrm>
                  <a:off x="2603520" y="1657440"/>
                  <a:ext cx="660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4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テキスト ボックス 73"/>
                <p:cNvSpPr/>
                <p:nvPr/>
              </p:nvSpPr>
              <p:spPr>
                <a:xfrm>
                  <a:off x="3683160" y="1657440"/>
                  <a:ext cx="94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6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テキスト ボックス 15"/>
                <p:cNvSpPr/>
                <p:nvPr/>
              </p:nvSpPr>
              <p:spPr>
                <a:xfrm>
                  <a:off x="5875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テキスト ボックス 32"/>
                <p:cNvSpPr/>
                <p:nvPr/>
              </p:nvSpPr>
              <p:spPr>
                <a:xfrm>
                  <a:off x="74329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７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テキスト ボックス 32"/>
                <p:cNvSpPr/>
                <p:nvPr/>
              </p:nvSpPr>
              <p:spPr>
                <a:xfrm>
                  <a:off x="795708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曲折矢印 43"/>
              <p:cNvSpPr/>
              <p:nvPr/>
            </p:nvSpPr>
            <p:spPr>
              <a:xfrm flipH="1" rot="10800000">
                <a:off x="7524720" y="343872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8" h="358775">
                    <a:moveTo>
                      <a:pt x="0" y="358775"/>
                    </a:moveTo>
                    <a:lnTo>
                      <a:pt x="0" y="161628"/>
                    </a:lnTo>
                    <a:cubicBezTo>
                      <a:pt x="0" y="92200"/>
                      <a:pt x="56282" y="35918"/>
                      <a:pt x="125710" y="35918"/>
                    </a:cubicBezTo>
                    <a:lnTo>
                      <a:pt x="215504" y="35917"/>
                    </a:lnTo>
                    <a:lnTo>
                      <a:pt x="215504" y="0"/>
                    </a:lnTo>
                    <a:lnTo>
                      <a:pt x="287338" y="71835"/>
                    </a:lnTo>
                    <a:lnTo>
                      <a:pt x="215504" y="143669"/>
                    </a:lnTo>
                    <a:lnTo>
                      <a:pt x="215504" y="107752"/>
                    </a:lnTo>
                    <a:lnTo>
                      <a:pt x="125710" y="107752"/>
                    </a:lnTo>
                    <a:cubicBezTo>
                      <a:pt x="95955" y="107752"/>
                      <a:pt x="71834" y="131873"/>
                      <a:pt x="71834" y="161628"/>
                    </a:cubicBezTo>
                    <a:cubicBezTo>
                      <a:pt x="71834" y="227344"/>
                      <a:pt x="71835" y="293059"/>
                      <a:pt x="71835" y="358775"/>
                    </a:cubicBez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テキスト ボックス 56"/>
          <p:cNvSpPr/>
          <p:nvPr/>
        </p:nvSpPr>
        <p:spPr>
          <a:xfrm>
            <a:off x="7755120" y="1314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56"/>
          <p:cNvSpPr/>
          <p:nvPr/>
        </p:nvSpPr>
        <p:spPr>
          <a:xfrm>
            <a:off x="610884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グループ化 8"/>
          <p:cNvGrpSpPr/>
          <p:nvPr/>
        </p:nvGrpSpPr>
        <p:grpSpPr>
          <a:xfrm>
            <a:off x="415800" y="4287960"/>
            <a:ext cx="2919600" cy="1919160"/>
            <a:chOff x="415800" y="4287960"/>
            <a:chExt cx="2919600" cy="1919160"/>
          </a:xfrm>
        </p:grpSpPr>
        <p:pic>
          <p:nvPicPr>
            <p:cNvPr id="734" name="図 2" descr=""/>
            <p:cNvPicPr/>
            <p:nvPr/>
          </p:nvPicPr>
          <p:blipFill>
            <a:blip r:embed="rId1"/>
            <a:srcRect l="13723" t="11470" r="13496" b="14124"/>
            <a:stretch/>
          </p:blipFill>
          <p:spPr>
            <a:xfrm>
              <a:off x="415800" y="4287960"/>
              <a:ext cx="1878120" cy="1919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5" name="直線矢印コネクタ 6"/>
            <p:cNvCxnSpPr/>
            <p:nvPr/>
          </p:nvCxnSpPr>
          <p:spPr>
            <a:xfrm flipH="1">
              <a:off x="1582200" y="5732640"/>
              <a:ext cx="829440" cy="17352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36" name="テキスト ボックス 10"/>
            <p:cNvSpPr/>
            <p:nvPr/>
          </p:nvSpPr>
          <p:spPr>
            <a:xfrm>
              <a:off x="2446560" y="559440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出血部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7" name="図 2" descr=""/>
          <p:cNvPicPr/>
          <p:nvPr/>
        </p:nvPicPr>
        <p:blipFill>
          <a:blip r:embed="rId2"/>
          <a:stretch/>
        </p:blipFill>
        <p:spPr>
          <a:xfrm>
            <a:off x="6480000" y="4295880"/>
            <a:ext cx="22561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グループ化 15"/>
          <p:cNvGrpSpPr/>
          <p:nvPr/>
        </p:nvGrpSpPr>
        <p:grpSpPr>
          <a:xfrm>
            <a:off x="1403280" y="1068480"/>
            <a:ext cx="2664000" cy="5673600"/>
            <a:chOff x="1403280" y="1068480"/>
            <a:chExt cx="2664000" cy="5673600"/>
          </a:xfrm>
        </p:grpSpPr>
        <p:pic>
          <p:nvPicPr>
            <p:cNvPr id="739" name="Picture 3" descr="C:\Users\p039eb\Desktop\ポリクリ\全身図：前.png"/>
            <p:cNvPicPr/>
            <p:nvPr/>
          </p:nvPicPr>
          <p:blipFill>
            <a:blip r:embed="rId1"/>
            <a:stretch/>
          </p:blipFill>
          <p:spPr>
            <a:xfrm>
              <a:off x="1403280" y="1068480"/>
              <a:ext cx="2664000" cy="56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直線コネクタ 14"/>
            <p:cNvSpPr/>
            <p:nvPr/>
          </p:nvSpPr>
          <p:spPr>
            <a:xfrm>
              <a:off x="2776680" y="3141720"/>
              <a:ext cx="0" cy="2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4"/>
          <p:cNvSpPr/>
          <p:nvPr/>
        </p:nvSpPr>
        <p:spPr>
          <a:xfrm>
            <a:off x="5014800" y="1197000"/>
            <a:ext cx="4116600" cy="4512960"/>
          </a:xfrm>
          <a:custGeom>
            <a:avLst/>
            <a:gdLst>
              <a:gd name="textAreaLeft" fmla="*/ 200880 w 4116600"/>
              <a:gd name="textAreaRight" fmla="*/ 3915720 w 4116600"/>
              <a:gd name="textAreaTop" fmla="*/ 200880 h 4512960"/>
              <a:gd name="textAreaBottom" fmla="*/ 4312080 h 4512960"/>
            </a:gdLst>
            <a:ahLst/>
            <a:rect l="textAreaLeft" t="textAreaTop" r="textAreaRight" b="textAreaBottom"/>
            <a:pathLst>
              <a:path w="21600" h="23680">
                <a:moveTo>
                  <a:pt x="3600" y="0"/>
                </a:moveTo>
                <a:arcTo wR="3600" hR="3600" stAng="16200000" swAng="-5400000"/>
                <a:lnTo>
                  <a:pt x="0" y="20080"/>
                </a:lnTo>
                <a:arcTo wR="3600" hR="3600" stAng="10800000" swAng="-5400000"/>
                <a:lnTo>
                  <a:pt x="18000" y="23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KT: 37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℃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, SpO2: 9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下腿浮腫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すべきこと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糖尿病、胃潰瘍、脂質異常症、過活動性膀胱、内痔核、左緑内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ope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19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にて肝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切除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20mg)1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トリメブチンマレイン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100m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メコバラミン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500u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水和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)3T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酪酸塩配合剤散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プレカバリン口腔内崩壊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ca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就寝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酸化マグネシウム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0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ジメモルファンリン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エピナスチン塩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、夕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吹き出し 5"/>
          <p:cNvSpPr/>
          <p:nvPr/>
        </p:nvSpPr>
        <p:spPr>
          <a:xfrm>
            <a:off x="611280" y="981000"/>
            <a:ext cx="1728720" cy="854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R: 86, BP: 122/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吹き出し 27"/>
          <p:cNvSpPr/>
          <p:nvPr/>
        </p:nvSpPr>
        <p:spPr>
          <a:xfrm>
            <a:off x="1042920" y="5603760"/>
            <a:ext cx="129708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点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正中部に手術痕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＋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2019</a:t>
            </a:r>
            <a:r>
              <a:rPr b="1" lang="ja-JP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年</a:t>
            </a: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3/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腹腔鏡下肝部分切除術（</a:t>
            </a:r>
            <a:r>
              <a:rPr b="1" lang="en-US" sz="1300" spc="-1" strike="noStrike">
                <a:solidFill>
                  <a:srgbClr val="ff0000"/>
                </a:solidFill>
                <a:latin typeface="ＭＳ Ｐゴシック"/>
              </a:rPr>
              <a:t>S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角丸四角形吹き出し 17"/>
          <p:cNvSpPr/>
          <p:nvPr/>
        </p:nvSpPr>
        <p:spPr>
          <a:xfrm>
            <a:off x="3635280" y="4595760"/>
            <a:ext cx="122400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角丸四角形 27"/>
          <p:cNvSpPr/>
          <p:nvPr/>
        </p:nvSpPr>
        <p:spPr>
          <a:xfrm>
            <a:off x="689040" y="4481640"/>
            <a:ext cx="4292640" cy="1363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肝動注と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同時に行う予定であったが、術中に、腫瘍内動静脈シャントがあることが分かったた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）右肝動注のみを実施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は行わなか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グループ化 2"/>
          <p:cNvGrpSpPr/>
          <p:nvPr/>
        </p:nvGrpSpPr>
        <p:grpSpPr>
          <a:xfrm>
            <a:off x="371520" y="1044720"/>
            <a:ext cx="4292640" cy="2908080"/>
            <a:chOff x="371520" y="1044720"/>
            <a:chExt cx="4292640" cy="2908080"/>
          </a:xfrm>
        </p:grpSpPr>
        <p:pic>
          <p:nvPicPr>
            <p:cNvPr id="752" name="図 5" descr=""/>
            <p:cNvPicPr/>
            <p:nvPr/>
          </p:nvPicPr>
          <p:blipFill>
            <a:blip r:embed="rId1"/>
            <a:srcRect l="14565" t="31619" r="33462" b="5753"/>
            <a:stretch/>
          </p:blipFill>
          <p:spPr>
            <a:xfrm>
              <a:off x="371520" y="1044720"/>
              <a:ext cx="429264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楕円 1"/>
            <p:cNvSpPr/>
            <p:nvPr/>
          </p:nvSpPr>
          <p:spPr>
            <a:xfrm>
              <a:off x="1935000" y="1811160"/>
              <a:ext cx="287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楕円 12"/>
            <p:cNvSpPr/>
            <p:nvPr/>
          </p:nvSpPr>
          <p:spPr>
            <a:xfrm>
              <a:off x="2654280" y="21448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楕円 13"/>
            <p:cNvSpPr/>
            <p:nvPr/>
          </p:nvSpPr>
          <p:spPr>
            <a:xfrm>
              <a:off x="2583000" y="145080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楕円 14"/>
            <p:cNvSpPr/>
            <p:nvPr/>
          </p:nvSpPr>
          <p:spPr>
            <a:xfrm>
              <a:off x="2470320" y="3078360"/>
              <a:ext cx="647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グループ化 7"/>
          <p:cNvGrpSpPr/>
          <p:nvPr/>
        </p:nvGrpSpPr>
        <p:grpSpPr>
          <a:xfrm>
            <a:off x="5178600" y="1044720"/>
            <a:ext cx="3685680" cy="2518920"/>
            <a:chOff x="5178600" y="1044720"/>
            <a:chExt cx="3685680" cy="2518920"/>
          </a:xfrm>
        </p:grpSpPr>
        <p:pic>
          <p:nvPicPr>
            <p:cNvPr id="758" name="図 3" descr=""/>
            <p:cNvPicPr/>
            <p:nvPr/>
          </p:nvPicPr>
          <p:blipFill>
            <a:blip r:embed="rId2"/>
            <a:srcRect l="11786" t="0" r="0" b="10460"/>
            <a:stretch/>
          </p:blipFill>
          <p:spPr>
            <a:xfrm rot="5400000">
              <a:off x="5984280" y="667800"/>
              <a:ext cx="2447280" cy="33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テキスト ボックス 4"/>
            <p:cNvSpPr/>
            <p:nvPr/>
          </p:nvSpPr>
          <p:spPr>
            <a:xfrm>
              <a:off x="6165720" y="189756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テキスト ボックス 17"/>
            <p:cNvSpPr/>
            <p:nvPr/>
          </p:nvSpPr>
          <p:spPr>
            <a:xfrm>
              <a:off x="5546520" y="17089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テキスト ボックス 18"/>
            <p:cNvSpPr/>
            <p:nvPr/>
          </p:nvSpPr>
          <p:spPr>
            <a:xfrm>
              <a:off x="5522400" y="2430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テキスト ボックス 19"/>
            <p:cNvSpPr/>
            <p:nvPr/>
          </p:nvSpPr>
          <p:spPr>
            <a:xfrm>
              <a:off x="6472440" y="28144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テキスト ボックス 20"/>
            <p:cNvSpPr/>
            <p:nvPr/>
          </p:nvSpPr>
          <p:spPr>
            <a:xfrm>
              <a:off x="6349680" y="1044720"/>
              <a:ext cx="17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Arial"/>
                </a:rPr>
                <a:t>腫瘍内シャン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テキスト ボックス 22"/>
            <p:cNvSpPr/>
            <p:nvPr/>
          </p:nvSpPr>
          <p:spPr>
            <a:xfrm>
              <a:off x="5178600" y="3287160"/>
              <a:ext cx="110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S6</a:t>
              </a:r>
              <a:r>
                <a:rPr b="0" lang="ja-JP" sz="1200" spc="-1" strike="noStrike">
                  <a:solidFill>
                    <a:srgbClr val="003300"/>
                  </a:solidFill>
                  <a:latin typeface="Arial"/>
                </a:rPr>
                <a:t>切除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グループ化 3"/>
          <p:cNvGrpSpPr/>
          <p:nvPr/>
        </p:nvGrpSpPr>
        <p:grpSpPr>
          <a:xfrm>
            <a:off x="5580000" y="3754440"/>
            <a:ext cx="2925720" cy="2448000"/>
            <a:chOff x="5580000" y="3754440"/>
            <a:chExt cx="2925720" cy="2448000"/>
          </a:xfrm>
        </p:grpSpPr>
        <p:grpSp>
          <p:nvGrpSpPr>
            <p:cNvPr id="766" name="グループ化 1"/>
            <p:cNvGrpSpPr/>
            <p:nvPr/>
          </p:nvGrpSpPr>
          <p:grpSpPr>
            <a:xfrm>
              <a:off x="5580000" y="3754440"/>
              <a:ext cx="2925720" cy="2448000"/>
              <a:chOff x="5580000" y="3754440"/>
              <a:chExt cx="2925720" cy="2448000"/>
            </a:xfrm>
          </p:grpSpPr>
          <p:pic>
            <p:nvPicPr>
              <p:cNvPr id="767" name="図 2" descr=""/>
              <p:cNvPicPr/>
              <p:nvPr/>
            </p:nvPicPr>
            <p:blipFill>
              <a:blip r:embed="rId3"/>
              <a:srcRect l="0" t="12466" r="0" b="12466"/>
              <a:stretch/>
            </p:blipFill>
            <p:spPr>
              <a:xfrm>
                <a:off x="5580000" y="3754440"/>
                <a:ext cx="2925720" cy="2448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68" name="直線矢印コネクタ 10"/>
              <p:cNvCxnSpPr/>
              <p:nvPr/>
            </p:nvCxnSpPr>
            <p:spPr>
              <a:xfrm flipH="1" flipV="1">
                <a:off x="6476040" y="4407840"/>
                <a:ext cx="224280" cy="430920"/>
              </a:xfrm>
              <a:prstGeom prst="straightConnector1">
                <a:avLst/>
              </a:prstGeom>
              <a:ln w="28440">
                <a:solidFill>
                  <a:srgbClr val="1f497d"/>
                </a:solidFill>
                <a:miter/>
                <a:tailEnd len="med" type="triangle" w="med"/>
              </a:ln>
            </p:spPr>
          </p:cxnSp>
        </p:grpSp>
        <p:sp>
          <p:nvSpPr>
            <p:cNvPr id="769" name="テキスト ボックス 2"/>
            <p:cNvSpPr/>
            <p:nvPr/>
          </p:nvSpPr>
          <p:spPr>
            <a:xfrm>
              <a:off x="6545880" y="4793760"/>
              <a:ext cx="126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肝静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8:50:12Z</dcterms:modified>
  <cp:revision>112</cp:revision>
  <dc:subject/>
  <dc:title>肝胆膵病態学総論</dc:title>
</cp:coreProperties>
</file>