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dt" idx="2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ftr" idx="2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 type="sldNum" idx="2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E8A1-8D78-4D71-A77A-C94A34E92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臨床実習時、実際の学生作らせてい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の絵のうち最初の臨床経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0F5C-0592-4D39-9CA3-6CE06BD6FE7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身体所見のまとめ、全身像で表現させ、また内服剤を使った上での現症を作成してもらっ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多くの投薬がされて、今があれば大事な情報なのでそうし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5622-C4EC-434A-8E70-B8C2CFCA13F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肝臓で入院した患者の肝臓の状態を、今までの治療歴を踏ま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の図にまとめ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このよ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の図をつくることで、患者の全体像がわかり経過がわかります。この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を使い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臨床判断の可否、今の状況、今後の問題点などを討議し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074E-0560-4AAC-8010-DEF48138998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A91E15-B84A-4ED3-BE13-BF28EAA0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39E042-4793-4372-A616-F4AB1702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CC0611-71BD-4618-AF7D-14A561F0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B6B47B-1A25-496D-A9B1-27491A42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D02BB4-A9E3-415E-A22C-E2F2CF17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96A1B3-09CE-424D-A00B-2C1EF81C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AC17EA-751E-4EFB-AABF-42227026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AB20DF-6479-48B8-8DFF-AE9540834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9E3EF5-872E-4CC4-8BEC-DE555C154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01B093-DB52-4F07-A941-BCAE99DBB6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5E7C48-9E6E-4435-BAE3-78DA5877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74ECE2-2B55-44F1-9C7E-480FEAE3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FD2759-D01C-4433-B875-2836463D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522125-F777-42BB-80B4-0DCECA6B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87CCAF-F8C7-45BE-998F-28BBF512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1DC7EF-030E-4A98-AAE6-0ADEC8A1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8BF179-3E85-48E1-ADC8-F86DB93E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64DF11-6E7A-48D3-8464-2A1CE2E1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C0C8AB-8EA7-4F71-A3B0-CD002B6D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E6575D-2220-413B-A90B-6C5D54DB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56E7ED-18F5-407D-8E59-B92703C528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688C1-D518-407D-8E0A-3169C0392E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FD344-7CB1-40F1-947C-9CEF41D4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5AA0C-C86A-48BB-BFC1-4F142627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469DD-9A4A-4571-B3B5-3D6ED654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3D33D-9098-4364-929B-9EC33FC02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CDF02-B88A-4C3B-98C0-878667B2B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96C64-35A8-4387-9C7B-5D194D25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F8EE0-B7EF-4910-9CE7-8097B5FF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448FA-4D3F-49BA-9F67-BA28CD47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8A1A2-303E-4BC7-98D7-C3E34E24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C980C-334C-4B85-811D-E22C5048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7FBF4-C59D-4BAE-9883-0B4B4A2899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2B75D-A06D-491A-8051-F71A5F6CB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89CE5-C877-4628-AAA5-903C29AD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200B4-66A3-49FC-BC68-CC2845E5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2AD3E-973B-42F7-884E-AF69D976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7DD81-1155-4453-8576-B843C1B6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51D38-FDDA-41E6-A5E5-62D297EC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38923-DB5E-4BA3-9C18-D1318BF9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9EFB6-67A6-4F61-9DE6-D9DB7AAF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E5BBA-EE93-417F-B63E-8D7B36D0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0AE12-52F9-4EC4-B594-B7D32B5A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65647-1C84-4111-8C17-A93AF4AE9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FE6B4-5287-4FD3-8F57-6601220E7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57ABF6-0844-436C-8C2D-03D6B3AD18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165A6C-8934-4EE9-ABA3-E3D60F84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82CF61-2529-4B92-B075-020B5CD0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866992-4F39-4607-BF78-9E76BC28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061413-9D5A-45F0-8CA9-337E997DC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D1E0A4-FB1B-426F-AD83-535499641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7530F6-D6A3-42D4-A478-A545ACB5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89BEB5-1DBD-409F-A530-6EDED28A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1B61BE-108C-413B-96F4-010D2B3B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79B5FC-E04F-4336-84BA-06A57D01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7B73E9-F04B-49D2-BDFD-0F03BEC9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388FA1-E15D-496C-87E3-10F2455D5C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DD464-84FC-4AD6-99D4-97454BEE8C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BEF21-2558-4433-9441-A839FA5D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943C5-107C-407A-86F6-2AB3DD5A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505E2-3E18-4E86-91D2-DE1D996E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5226F-AA77-46B2-9C7C-1C2D88E61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27B89-1CF2-466B-B114-A4CB6C333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216D2-41DF-4508-8EA8-43FAD2C2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05020-657D-4EAB-94B3-B807D4BC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D07DF-08C3-4D3D-9E66-AA082F94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7A987-1A04-4874-B93C-52D6D4BB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C957C-3C30-487F-BA34-99512358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EF333-3459-4066-9CBE-017FDA3DB9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CDF4B-5DB8-4C6E-BC4D-F3F733A68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7EA72-3BFF-43A3-9CBA-A1688C3F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9758A-DB9F-4549-861E-5B5E7325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E2251-30FF-458C-B10E-0D78788F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B6AD8-6B23-4467-BE41-21029182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BC025-BA9F-46B9-B9E3-EC359369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D1498-F256-40B8-974E-E7312860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8DD22-53E5-4669-8465-272164A3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424EB-2A5B-40B5-9112-4080E3F5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B2CED-CAA3-4479-8254-6638DED1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CA5C2-8785-4AE9-826E-8CF28CFB5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6EB7B-6A45-41A7-BF23-000829967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283FCB-097E-4387-B2BF-FCD008EF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5E48F9-25B5-493E-8509-DE8AF155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540432-C689-492E-80D8-8B10BFC2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8AE79A-7D9E-447F-B6F6-2BBBEDE5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49DA3A-5F1F-423D-97ED-07C45802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48FDAC-E387-4AD1-8CCE-477FB180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9CE4D6-261F-4C0A-B7A9-FBF593AC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4C9A73-7363-490E-AC3B-B115CAD5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303F9E-2260-4DA9-B008-1AEDDEF5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1674CC-4346-4480-B879-46D68C8C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286A00-A903-478E-B061-994D2D082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2528BA-6CE6-43FC-80E9-9C9A3487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221B14-9421-4511-BCDE-2F1726170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5325D2-EF58-4644-B293-4A8FDB11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93482A-F702-478F-8682-EBD82464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CEA96E-040D-471A-9A15-6EC15400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03A317-7621-47CD-B830-EC445A9C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E6F294-1988-4210-B0B5-1CC1606E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D9592D-9282-43CE-8677-6C39D2ED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51D017-C1C8-4C91-8AB4-EEB7FE49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D29220-60C8-49EE-9C21-AACE1273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697187-AC02-4846-9EDF-3CC945BE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35B123-E2B6-4A1E-AC29-96017072B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D0CC94-0590-40C9-BCF4-393982FD6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319733-994C-4ECA-83C3-0A8192308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AD267D-C993-4C6D-A598-3BC1B08C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E315C7-2D95-4577-B7CD-8C9B0987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21.xml"/><Relationship Id="rId10" Type="http://schemas.openxmlformats.org/officeDocument/2006/relationships/slideLayout" Target="../slideLayouts/slideLayout122.xml"/><Relationship Id="rId11" Type="http://schemas.openxmlformats.org/officeDocument/2006/relationships/slideLayout" Target="../slideLayouts/slideLayout123.xml"/><Relationship Id="rId12" Type="http://schemas.openxmlformats.org/officeDocument/2006/relationships/slideLayout" Target="../slideLayouts/slideLayout124.xml"/><Relationship Id="rId13" Type="http://schemas.openxmlformats.org/officeDocument/2006/relationships/slideLayout" Target="../slideLayouts/slideLayout125.xml"/><Relationship Id="rId14" Type="http://schemas.openxmlformats.org/officeDocument/2006/relationships/slideLayout" Target="../slideLayouts/slideLayout126.xml"/><Relationship Id="rId15" Type="http://schemas.openxmlformats.org/officeDocument/2006/relationships/slideLayout" Target="../slideLayouts/slideLayout127.xml"/><Relationship Id="rId16" Type="http://schemas.openxmlformats.org/officeDocument/2006/relationships/slideLayout" Target="../slideLayouts/slideLayout128.xml"/><Relationship Id="rId17" Type="http://schemas.openxmlformats.org/officeDocument/2006/relationships/slideLayout" Target="../slideLayouts/slideLayout129.xml"/><Relationship Id="rId18" Type="http://schemas.openxmlformats.org/officeDocument/2006/relationships/slideLayout" Target="../slideLayouts/slideLayout130.xml"/><Relationship Id="rId19" Type="http://schemas.openxmlformats.org/officeDocument/2006/relationships/slideLayout" Target="../slideLayouts/slideLayout131.xml"/><Relationship Id="rId20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45.xml"/><Relationship Id="rId10" Type="http://schemas.openxmlformats.org/officeDocument/2006/relationships/slideLayout" Target="../slideLayouts/slideLayout146.xml"/><Relationship Id="rId11" Type="http://schemas.openxmlformats.org/officeDocument/2006/relationships/slideLayout" Target="../slideLayouts/slideLayout147.xml"/><Relationship Id="rId12" Type="http://schemas.openxmlformats.org/officeDocument/2006/relationships/slideLayout" Target="../slideLayouts/slideLayout148.xml"/><Relationship Id="rId13" Type="http://schemas.openxmlformats.org/officeDocument/2006/relationships/slideLayout" Target="../slideLayouts/slideLayout149.xml"/><Relationship Id="rId14" Type="http://schemas.openxmlformats.org/officeDocument/2006/relationships/slideLayout" Target="../slideLayouts/slideLayout150.xml"/><Relationship Id="rId15" Type="http://schemas.openxmlformats.org/officeDocument/2006/relationships/slideLayout" Target="../slideLayouts/slideLayout151.xml"/><Relationship Id="rId16" Type="http://schemas.openxmlformats.org/officeDocument/2006/relationships/slideLayout" Target="../slideLayouts/slideLayout152.xml"/><Relationship Id="rId17" Type="http://schemas.openxmlformats.org/officeDocument/2006/relationships/slideLayout" Target="../slideLayouts/slideLayout153.xml"/><Relationship Id="rId18" Type="http://schemas.openxmlformats.org/officeDocument/2006/relationships/slideLayout" Target="../slideLayouts/slideLayout154.xml"/><Relationship Id="rId19" Type="http://schemas.openxmlformats.org/officeDocument/2006/relationships/slideLayout" Target="../slideLayouts/slideLayout155.xml"/><Relationship Id="rId20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97.xml"/><Relationship Id="rId10" Type="http://schemas.openxmlformats.org/officeDocument/2006/relationships/slideLayout" Target="../slideLayouts/slideLayout98.xml"/><Relationship Id="rId11" Type="http://schemas.openxmlformats.org/officeDocument/2006/relationships/slideLayout" Target="../slideLayouts/slideLayout99.xml"/><Relationship Id="rId12" Type="http://schemas.openxmlformats.org/officeDocument/2006/relationships/slideLayout" Target="../slideLayouts/slideLayout100.xml"/><Relationship Id="rId13" Type="http://schemas.openxmlformats.org/officeDocument/2006/relationships/slideLayout" Target="../slideLayouts/slideLayout101.xml"/><Relationship Id="rId14" Type="http://schemas.openxmlformats.org/officeDocument/2006/relationships/slideLayout" Target="../slideLayouts/slideLayout102.xml"/><Relationship Id="rId15" Type="http://schemas.openxmlformats.org/officeDocument/2006/relationships/slideLayout" Target="../slideLayouts/slideLayout103.xml"/><Relationship Id="rId16" Type="http://schemas.openxmlformats.org/officeDocument/2006/relationships/slideLayout" Target="../slideLayouts/slideLayout104.xml"/><Relationship Id="rId17" Type="http://schemas.openxmlformats.org/officeDocument/2006/relationships/slideLayout" Target="../slideLayouts/slideLayout105.xml"/><Relationship Id="rId18" Type="http://schemas.openxmlformats.org/officeDocument/2006/relationships/slideLayout" Target="../slideLayouts/slideLayout106.xml"/><Relationship Id="rId19" Type="http://schemas.openxmlformats.org/officeDocument/2006/relationships/slideLayout" Target="../slideLayouts/slideLayout107.xml"/><Relationship Id="rId20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2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9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28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429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30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4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4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4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37" name="PlaceHolder 1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7CA6-FC46-4248-BBD7-83BAB6A8F33D}" type="datetime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6/0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14F9-8550-4603-8D8F-54C492954A6A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77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478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79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480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1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82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3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484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5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86" name="PlaceHolder 1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8005-628F-4E41-92EC-2011758049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9"/>
    <p:sldLayoutId id="2147483780" r:id="rId10"/>
    <p:sldLayoutId id="2147483781" r:id="rId11"/>
    <p:sldLayoutId id="2147483782" r:id="rId12"/>
    <p:sldLayoutId id="2147483783" r:id="rId13"/>
    <p:sldLayoutId id="2147483784" r:id="rId14"/>
    <p:sldLayoutId id="2147483785" r:id="rId15"/>
    <p:sldLayoutId id="2147483786" r:id="rId16"/>
    <p:sldLayoutId id="2147483787" r:id="rId17"/>
    <p:sldLayoutId id="2147483788" r:id="rId18"/>
    <p:sldLayoutId id="2147483789" r:id="rId19"/>
    <p:sldLayoutId id="2147483790" r:id="rId20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52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2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2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2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3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3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35" name="PlaceHolder 1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4973-9A73-49B5-B89E-590F54893A1C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57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7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8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8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8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8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87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E40D-CE11-4E7A-836D-1E34439655EB}" type="datetime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6/0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E65A-C5B6-4EBF-9DA1-4A6445C1A61B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9"/>
    <p:sldLayoutId id="2147483806" r:id="rId10"/>
    <p:sldLayoutId id="2147483807" r:id="rId11"/>
    <p:sldLayoutId id="2147483808" r:id="rId12"/>
    <p:sldLayoutId id="2147483809" r:id="rId13"/>
    <p:sldLayoutId id="2147483810" r:id="rId14"/>
    <p:sldLayoutId id="2147483811" r:id="rId15"/>
    <p:sldLayoutId id="2147483812" r:id="rId16"/>
    <p:sldLayoutId id="2147483813" r:id="rId17"/>
    <p:sldLayoutId id="2147483814" r:id="rId18"/>
    <p:sldLayoutId id="2147483815" r:id="rId19"/>
    <p:sldLayoutId id="2147483816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9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0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1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2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4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6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9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9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9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9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0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0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143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144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145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146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48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50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190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191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192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193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95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6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97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9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8E6F-66D1-41A1-A28D-8F6D828AAD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239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240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241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242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44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5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246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8" name="PlaceHolder 1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1FC4-9905-4926-A960-4E7D8D98B6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325F-628C-4C38-BC38-0015D663DF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32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2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33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3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3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37" name="PlaceHolder 1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8D27-0E2A-4B21-9A11-4DB5A6F083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37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7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38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38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8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38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87" name="PlaceHolder 1"/>
          <p:cNvSpPr>
            <a:spLocks noGrp="1"/>
          </p:cNvSpPr>
          <p:nvPr>
            <p:ph type="dt" idx="1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1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E1A5-2156-4D8F-8718-F7938CCD5C52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9"/>
    <p:sldLayoutId id="2147483754" r:id="rId10"/>
    <p:sldLayoutId id="2147483755" r:id="rId11"/>
    <p:sldLayoutId id="2147483756" r:id="rId12"/>
    <p:sldLayoutId id="2147483757" r:id="rId13"/>
    <p:sldLayoutId id="2147483758" r:id="rId14"/>
    <p:sldLayoutId id="2147483759" r:id="rId15"/>
    <p:sldLayoutId id="2147483760" r:id="rId16"/>
    <p:sldLayoutId id="2147483761" r:id="rId17"/>
    <p:sldLayoutId id="2147483762" r:id="rId18"/>
    <p:sldLayoutId id="2147483763" r:id="rId19"/>
    <p:sldLayoutId id="2147483764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80661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繰り返す膵炎による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仮性動脈瘤からの出血により、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緊急血管塞栓術を行った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直線コネクタ 58"/>
          <p:cNvSpPr/>
          <p:nvPr/>
        </p:nvSpPr>
        <p:spPr>
          <a:xfrm>
            <a:off x="5580000" y="2000160"/>
            <a:ext cx="12600" cy="211788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直線コネクタ 91"/>
          <p:cNvSpPr/>
          <p:nvPr/>
        </p:nvSpPr>
        <p:spPr>
          <a:xfrm>
            <a:off x="2919240" y="1989000"/>
            <a:ext cx="11160" cy="22543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直線コネクタ 55"/>
          <p:cNvSpPr/>
          <p:nvPr/>
        </p:nvSpPr>
        <p:spPr>
          <a:xfrm>
            <a:off x="3565440" y="1989000"/>
            <a:ext cx="55800" cy="32292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テキスト ボックス 30"/>
          <p:cNvSpPr/>
          <p:nvPr/>
        </p:nvSpPr>
        <p:spPr>
          <a:xfrm>
            <a:off x="3278160" y="16930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角丸四角形 28"/>
          <p:cNvSpPr/>
          <p:nvPr/>
        </p:nvSpPr>
        <p:spPr>
          <a:xfrm>
            <a:off x="2916360" y="5218200"/>
            <a:ext cx="14112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左の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膵性胸水の出現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を認め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試験穿刺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(20ml)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を施行した後、自然に消失し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直線コネクタ 57"/>
          <p:cNvSpPr/>
          <p:nvPr/>
        </p:nvSpPr>
        <p:spPr>
          <a:xfrm>
            <a:off x="5008680" y="1995480"/>
            <a:ext cx="0" cy="7160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直線コネクタ 59"/>
          <p:cNvSpPr/>
          <p:nvPr/>
        </p:nvSpPr>
        <p:spPr>
          <a:xfrm flipH="1" flipV="1">
            <a:off x="5537160" y="4600080"/>
            <a:ext cx="55440" cy="24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0" y="82080"/>
            <a:ext cx="9144000" cy="700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現病歴　既往歴　治療介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テキスト ボックス 25"/>
          <p:cNvSpPr/>
          <p:nvPr/>
        </p:nvSpPr>
        <p:spPr>
          <a:xfrm>
            <a:off x="3939120" y="1413000"/>
            <a:ext cx="7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令和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テキスト ボックス 34"/>
          <p:cNvSpPr/>
          <p:nvPr/>
        </p:nvSpPr>
        <p:spPr>
          <a:xfrm>
            <a:off x="5292720" y="16930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テキスト ボックス 14"/>
          <p:cNvSpPr/>
          <p:nvPr/>
        </p:nvSpPr>
        <p:spPr>
          <a:xfrm>
            <a:off x="211680" y="14130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歳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4" name="直線矢印コネクタ 4"/>
          <p:cNvCxnSpPr/>
          <p:nvPr/>
        </p:nvCxnSpPr>
        <p:spPr>
          <a:xfrm>
            <a:off x="28440" y="1987560"/>
            <a:ext cx="9081360" cy="1800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5" name="曲折矢印 43"/>
          <p:cNvSpPr/>
          <p:nvPr/>
        </p:nvSpPr>
        <p:spPr>
          <a:xfrm flipH="1" rot="10800000">
            <a:off x="4465800" y="3804840"/>
            <a:ext cx="395280" cy="677880"/>
          </a:xfrm>
          <a:custGeom>
            <a:avLst/>
            <a:gdLst/>
            <a:ahLst/>
            <a:rect l="l" t="t" r="r" b="b"/>
            <a:pathLst>
              <a:path w="395287" h="677862">
                <a:moveTo>
                  <a:pt x="0" y="677862"/>
                </a:moveTo>
                <a:lnTo>
                  <a:pt x="0" y="222349"/>
                </a:lnTo>
                <a:cubicBezTo>
                  <a:pt x="0" y="126838"/>
                  <a:pt x="77427" y="49411"/>
                  <a:pt x="172938" y="49411"/>
                </a:cubicBezTo>
                <a:lnTo>
                  <a:pt x="296465" y="49411"/>
                </a:lnTo>
                <a:lnTo>
                  <a:pt x="296465" y="0"/>
                </a:lnTo>
                <a:lnTo>
                  <a:pt x="395287" y="98822"/>
                </a:lnTo>
                <a:lnTo>
                  <a:pt x="296465" y="197644"/>
                </a:lnTo>
                <a:lnTo>
                  <a:pt x="296465" y="148233"/>
                </a:lnTo>
                <a:lnTo>
                  <a:pt x="172938" y="148233"/>
                </a:lnTo>
                <a:cubicBezTo>
                  <a:pt x="132005" y="148233"/>
                  <a:pt x="98822" y="181416"/>
                  <a:pt x="98822" y="222349"/>
                </a:cubicBezTo>
                <a:lnTo>
                  <a:pt x="98822" y="677862"/>
                </a:lnTo>
                <a:lnTo>
                  <a:pt x="0" y="677862"/>
                </a:lnTo>
                <a:close/>
              </a:path>
            </a:pathLst>
          </a:cu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テキスト ボックス 3"/>
          <p:cNvSpPr/>
          <p:nvPr/>
        </p:nvSpPr>
        <p:spPr>
          <a:xfrm>
            <a:off x="6059880" y="765000"/>
            <a:ext cx="2375280" cy="642600"/>
          </a:xfrm>
          <a:prstGeom prst="rect">
            <a:avLst/>
          </a:prstGeom>
          <a:solidFill>
            <a:srgbClr val="e6e0e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３９歳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急性腹症にて発見された仮性動脈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テキスト ボックス 49"/>
          <p:cNvSpPr/>
          <p:nvPr/>
        </p:nvSpPr>
        <p:spPr>
          <a:xfrm>
            <a:off x="28440" y="2095560"/>
            <a:ext cx="1065240" cy="710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回ほ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アルコール性急性膵炎の既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あ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直線コネクタ 64"/>
          <p:cNvSpPr/>
          <p:nvPr/>
        </p:nvSpPr>
        <p:spPr>
          <a:xfrm flipH="1">
            <a:off x="1550520" y="1979640"/>
            <a:ext cx="3240" cy="17413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テキスト ボックス 15"/>
          <p:cNvSpPr/>
          <p:nvPr/>
        </p:nvSpPr>
        <p:spPr>
          <a:xfrm>
            <a:off x="1258920" y="16930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テキスト ボックス 25"/>
          <p:cNvSpPr/>
          <p:nvPr/>
        </p:nvSpPr>
        <p:spPr>
          <a:xfrm>
            <a:off x="1194840" y="1413000"/>
            <a:ext cx="7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令和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テキスト ボックス 52"/>
          <p:cNvSpPr/>
          <p:nvPr/>
        </p:nvSpPr>
        <p:spPr>
          <a:xfrm>
            <a:off x="436680" y="3726000"/>
            <a:ext cx="1368360" cy="91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胃透視で、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胃粘膜下腫瘍疑い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指摘され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上部消化管内視鏡検査で胃体部に壁外性圧排を認め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検査で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膵体尾部の嚢胞と周囲脂肪織濃度上昇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認め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テキスト ボックス 18"/>
          <p:cNvSpPr/>
          <p:nvPr/>
        </p:nvSpPr>
        <p:spPr>
          <a:xfrm>
            <a:off x="1836720" y="169308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テキスト ボックス 26"/>
          <p:cNvSpPr/>
          <p:nvPr/>
        </p:nvSpPr>
        <p:spPr>
          <a:xfrm>
            <a:off x="2589120" y="1692360"/>
            <a:ext cx="5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/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テキスト ボックス 54"/>
          <p:cNvSpPr/>
          <p:nvPr/>
        </p:nvSpPr>
        <p:spPr>
          <a:xfrm>
            <a:off x="1843200" y="2100240"/>
            <a:ext cx="1614240" cy="30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腹痛、白血球上昇を認めたため、膵炎後の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膵仮性嚢胞感染の疑い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、村上総合病院に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入院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し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曲折矢印 42"/>
          <p:cNvSpPr/>
          <p:nvPr/>
        </p:nvSpPr>
        <p:spPr>
          <a:xfrm flipH="1" rot="10800000">
            <a:off x="2171880" y="3933720"/>
            <a:ext cx="288720" cy="620640"/>
          </a:xfrm>
          <a:custGeom>
            <a:avLst/>
            <a:gdLst/>
            <a:ahLst/>
            <a:rect l="l" t="t" r="r" b="b"/>
            <a:pathLst>
              <a:path w="288925" h="620713">
                <a:moveTo>
                  <a:pt x="0" y="620713"/>
                </a:moveTo>
                <a:lnTo>
                  <a:pt x="0" y="162520"/>
                </a:lnTo>
                <a:cubicBezTo>
                  <a:pt x="0" y="92708"/>
                  <a:pt x="56593" y="36115"/>
                  <a:pt x="126405" y="36115"/>
                </a:cubicBezTo>
                <a:lnTo>
                  <a:pt x="216694" y="36116"/>
                </a:lnTo>
                <a:lnTo>
                  <a:pt x="216694" y="0"/>
                </a:lnTo>
                <a:lnTo>
                  <a:pt x="288925" y="72231"/>
                </a:lnTo>
                <a:lnTo>
                  <a:pt x="216694" y="144463"/>
                </a:lnTo>
                <a:lnTo>
                  <a:pt x="216694" y="108347"/>
                </a:lnTo>
                <a:lnTo>
                  <a:pt x="126405" y="108347"/>
                </a:lnTo>
                <a:cubicBezTo>
                  <a:pt x="96486" y="108347"/>
                  <a:pt x="72232" y="132601"/>
                  <a:pt x="72232" y="162520"/>
                </a:cubicBezTo>
                <a:cubicBezTo>
                  <a:pt x="72232" y="315251"/>
                  <a:pt x="72231" y="467982"/>
                  <a:pt x="72231" y="620713"/>
                </a:cubicBezTo>
                <a:lnTo>
                  <a:pt x="0" y="620713"/>
                </a:lnTo>
                <a:close/>
              </a:path>
            </a:pathLst>
          </a:cu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テキスト ボックス 58"/>
          <p:cNvSpPr/>
          <p:nvPr/>
        </p:nvSpPr>
        <p:spPr>
          <a:xfrm>
            <a:off x="2511360" y="4214880"/>
            <a:ext cx="1366920" cy="30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村上総合病院を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退院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し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四角形: 角を丸くする 6"/>
          <p:cNvSpPr/>
          <p:nvPr/>
        </p:nvSpPr>
        <p:spPr>
          <a:xfrm>
            <a:off x="2228760" y="3166920"/>
            <a:ext cx="1584360" cy="64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抗生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メロペ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g×3/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日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で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症状が改善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し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直線コネクタ 62"/>
          <p:cNvSpPr/>
          <p:nvPr/>
        </p:nvSpPr>
        <p:spPr>
          <a:xfrm>
            <a:off x="2195640" y="1989000"/>
            <a:ext cx="0" cy="123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テキスト ボックス 34"/>
          <p:cNvSpPr/>
          <p:nvPr/>
        </p:nvSpPr>
        <p:spPr>
          <a:xfrm>
            <a:off x="4068720" y="169308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角丸四角形 28"/>
          <p:cNvSpPr/>
          <p:nvPr/>
        </p:nvSpPr>
        <p:spPr>
          <a:xfrm>
            <a:off x="3708360" y="2116080"/>
            <a:ext cx="1195560" cy="4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腹痛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心窩部痛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が出現し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直線コネクタ 76"/>
          <p:cNvSpPr/>
          <p:nvPr/>
        </p:nvSpPr>
        <p:spPr>
          <a:xfrm>
            <a:off x="4327560" y="1987560"/>
            <a:ext cx="0" cy="1238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グループ化 25"/>
          <p:cNvGrpSpPr/>
          <p:nvPr/>
        </p:nvGrpSpPr>
        <p:grpSpPr>
          <a:xfrm>
            <a:off x="3995640" y="2711520"/>
            <a:ext cx="2827440" cy="1119240"/>
            <a:chOff x="3995640" y="2711520"/>
            <a:chExt cx="2827440" cy="1119240"/>
          </a:xfrm>
        </p:grpSpPr>
        <p:sp>
          <p:nvSpPr>
            <p:cNvPr id="663" name="角丸四角形 28"/>
            <p:cNvSpPr/>
            <p:nvPr/>
          </p:nvSpPr>
          <p:spPr>
            <a:xfrm>
              <a:off x="3995640" y="2711520"/>
              <a:ext cx="2305080" cy="944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村上総合病院を受診し、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ゴシック"/>
                </a:rPr>
                <a:t>CT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検査で、</a:t>
              </a:r>
              <a:r>
                <a:rPr b="1" lang="ja-JP" sz="1200" spc="-1" strike="noStrike">
                  <a:solidFill>
                    <a:srgbClr val="000000"/>
                  </a:solidFill>
                  <a:latin typeface="ＭＳ Ｐゴシック"/>
                </a:rPr>
                <a:t>膵嚢胞感染再発の疑いで入院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した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角丸四角形 28"/>
            <p:cNvSpPr/>
            <p:nvPr/>
          </p:nvSpPr>
          <p:spPr>
            <a:xfrm>
              <a:off x="5084640" y="3324240"/>
              <a:ext cx="1738440" cy="506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抗生剤の</a:t>
              </a:r>
              <a:r>
                <a:rPr b="1" lang="ja-JP" sz="1200" spc="-1" strike="noStrike">
                  <a:solidFill>
                    <a:srgbClr val="000000"/>
                  </a:solidFill>
                  <a:latin typeface="ＭＳ Ｐゴシック"/>
                </a:rPr>
                <a:t>治療が奏功していない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と判断された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角丸四角形 28"/>
          <p:cNvSpPr/>
          <p:nvPr/>
        </p:nvSpPr>
        <p:spPr>
          <a:xfrm>
            <a:off x="4911840" y="4118040"/>
            <a:ext cx="1360440" cy="50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精査加療目的に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当科入院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し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テキスト ボックス 34"/>
          <p:cNvSpPr/>
          <p:nvPr/>
        </p:nvSpPr>
        <p:spPr>
          <a:xfrm>
            <a:off x="6270480" y="169164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テキスト ボックス 34"/>
          <p:cNvSpPr/>
          <p:nvPr/>
        </p:nvSpPr>
        <p:spPr>
          <a:xfrm>
            <a:off x="4797360" y="1693080"/>
            <a:ext cx="5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角丸四角形 28"/>
          <p:cNvSpPr/>
          <p:nvPr/>
        </p:nvSpPr>
        <p:spPr>
          <a:xfrm>
            <a:off x="4440240" y="5132520"/>
            <a:ext cx="2508120" cy="1176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胸腹骨盤部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CT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検査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ダイナミック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MRCP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の結果より、左胃動脈から分枝する仮性動脈瘤の破裂と考えられ、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緊急で血管塞栓が必要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と判断し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1/19 Angio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施行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が決定し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直線コネクタ 89"/>
          <p:cNvSpPr/>
          <p:nvPr/>
        </p:nvSpPr>
        <p:spPr>
          <a:xfrm>
            <a:off x="6558120" y="2011320"/>
            <a:ext cx="0" cy="31428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テキスト ボックス 34"/>
          <p:cNvSpPr/>
          <p:nvPr/>
        </p:nvSpPr>
        <p:spPr>
          <a:xfrm>
            <a:off x="7020000" y="169164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直線コネクタ 42"/>
          <p:cNvSpPr/>
          <p:nvPr/>
        </p:nvSpPr>
        <p:spPr>
          <a:xfrm>
            <a:off x="7297560" y="1987560"/>
            <a:ext cx="11160" cy="1905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角丸四角形 28"/>
          <p:cNvSpPr/>
          <p:nvPr/>
        </p:nvSpPr>
        <p:spPr>
          <a:xfrm>
            <a:off x="6386400" y="2325600"/>
            <a:ext cx="1613160" cy="77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仮性動脈瘤をヒストアクリルとコイルを用いて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塞栓した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角丸四角形 28"/>
          <p:cNvSpPr/>
          <p:nvPr/>
        </p:nvSpPr>
        <p:spPr>
          <a:xfrm>
            <a:off x="6632640" y="3898800"/>
            <a:ext cx="1366920" cy="77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アルコールに関して精神科を受診し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下矢印 20"/>
          <p:cNvSpPr/>
          <p:nvPr/>
        </p:nvSpPr>
        <p:spPr>
          <a:xfrm>
            <a:off x="5511960" y="4700520"/>
            <a:ext cx="160200" cy="357120"/>
          </a:xfrm>
          <a:prstGeom prst="downArrow">
            <a:avLst>
              <a:gd name="adj1" fmla="val 50000"/>
              <a:gd name="adj2" fmla="val 50033"/>
            </a:avLst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テキスト ボックス 34"/>
          <p:cNvSpPr/>
          <p:nvPr/>
        </p:nvSpPr>
        <p:spPr>
          <a:xfrm>
            <a:off x="8040600" y="1688400"/>
            <a:ext cx="57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/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角丸四角形 28"/>
          <p:cNvSpPr/>
          <p:nvPr/>
        </p:nvSpPr>
        <p:spPr>
          <a:xfrm>
            <a:off x="7648560" y="4803840"/>
            <a:ext cx="1360440" cy="50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当院を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退院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し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直線コネクタ 46"/>
          <p:cNvSpPr/>
          <p:nvPr/>
        </p:nvSpPr>
        <p:spPr>
          <a:xfrm flipH="1">
            <a:off x="8329320" y="2013120"/>
            <a:ext cx="3240" cy="27907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3" descr="C:\Users\p039eb\Desktop\ポリクリ\全身図：前.png"/>
          <p:cNvPicPr/>
          <p:nvPr/>
        </p:nvPicPr>
        <p:blipFill>
          <a:blip r:embed="rId1"/>
          <a:stretch/>
        </p:blipFill>
        <p:spPr>
          <a:xfrm>
            <a:off x="1403280" y="1068480"/>
            <a:ext cx="2664000" cy="5673600"/>
          </a:xfrm>
          <a:prstGeom prst="rect">
            <a:avLst/>
          </a:prstGeom>
          <a:ln w="0">
            <a:noFill/>
          </a:ln>
        </p:spPr>
      </p:pic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3760" y="38160"/>
            <a:ext cx="9144000" cy="620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身体所見のまと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テキスト ボックス 4"/>
          <p:cNvSpPr/>
          <p:nvPr/>
        </p:nvSpPr>
        <p:spPr>
          <a:xfrm>
            <a:off x="5027760" y="804960"/>
            <a:ext cx="4032000" cy="5284080"/>
          </a:xfrm>
          <a:custGeom>
            <a:avLst/>
            <a:gdLst>
              <a:gd name="textAreaLeft" fmla="*/ 196560 w 4032000"/>
              <a:gd name="textAreaRight" fmla="*/ 3835440 w 4032000"/>
              <a:gd name="textAreaTop" fmla="*/ 196560 h 5284080"/>
              <a:gd name="textAreaBottom" fmla="*/ 5087520 h 5284080"/>
            </a:gdLst>
            <a:ahLst/>
            <a:rect l="textAreaLeft" t="textAreaTop" r="textAreaRight" b="textAreaBottom"/>
            <a:pathLst>
              <a:path w="21600" h="28307">
                <a:moveTo>
                  <a:pt x="3600" y="0"/>
                </a:moveTo>
                <a:arcTo wR="3600" hR="3600" stAng="16200000" swAng="-5400000"/>
                <a:lnTo>
                  <a:pt x="0" y="24707"/>
                </a:lnTo>
                <a:arcTo wR="3600" hR="3600" stAng="10800000" swAng="-5400000"/>
                <a:lnTo>
                  <a:pt x="18000" y="283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【入院時所見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T: 36.7℃, SpO2: 98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％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room ai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【生活歴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飲酒歴：缶ビール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缶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日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昨年まで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喫煙歴：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0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本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日　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年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職歴：配管設備会社役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【家族歴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母、祖父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母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：胃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祖父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父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：糖尿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【既往歴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アルコール性膵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膵仮性嚢胞感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【アレルギー】な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内服】カモスタットメシル酸塩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経口蛋白分解酵素阻害薬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100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㎎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T 3×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毎食後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内服中止中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角丸四角形吹き出し 5"/>
          <p:cNvSpPr/>
          <p:nvPr/>
        </p:nvSpPr>
        <p:spPr>
          <a:xfrm>
            <a:off x="795240" y="900000"/>
            <a:ext cx="1727280" cy="935280"/>
          </a:xfrm>
          <a:prstGeom prst="wedgeRoundRectCallout">
            <a:avLst>
              <a:gd name="adj1" fmla="val 41222"/>
              <a:gd name="adj2" fmla="val 64236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意識清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リンパ節腫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眼瞼結膜：貧血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眼球結膜：黄染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角丸四角形吹き出し 11"/>
          <p:cNvSpPr/>
          <p:nvPr/>
        </p:nvSpPr>
        <p:spPr>
          <a:xfrm>
            <a:off x="119160" y="2063880"/>
            <a:ext cx="2519280" cy="1028520"/>
          </a:xfrm>
          <a:prstGeom prst="wedgeRoundRectCallout">
            <a:avLst>
              <a:gd name="adj1" fmla="val 60726"/>
              <a:gd name="adj2" fmla="val 32495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心電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HR: 62bpm, BP: 114/72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Heart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：心音正常、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no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murm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Lung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：呼吸音正常、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no ra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角丸四角形吹き出し 12"/>
          <p:cNvSpPr/>
          <p:nvPr/>
        </p:nvSpPr>
        <p:spPr>
          <a:xfrm>
            <a:off x="3348000" y="2219400"/>
            <a:ext cx="1655640" cy="1657440"/>
          </a:xfrm>
          <a:prstGeom prst="wedgeRoundRectCallout">
            <a:avLst>
              <a:gd name="adj1" fmla="val -59972"/>
              <a:gd name="adj2" fmla="val 33949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腹部：平坦、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ＭＳ Ｐゴシック"/>
              </a:rPr>
              <a:t>圧痛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ＭＳ Ｐゴシック"/>
              </a:rPr>
              <a:t>腸蠕動音正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ＭＳ Ｐゴシック"/>
              </a:rPr>
              <a:t>血管雑音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脾・腎触知しない腫瘤触知し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クモ状血管腫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角丸四角形吹き出し 27"/>
          <p:cNvSpPr/>
          <p:nvPr/>
        </p:nvSpPr>
        <p:spPr>
          <a:xfrm>
            <a:off x="1187280" y="5603760"/>
            <a:ext cx="1152720" cy="432000"/>
          </a:xfrm>
          <a:prstGeom prst="wedgeRoundRectCallout">
            <a:avLst>
              <a:gd name="adj1" fmla="val 67060"/>
              <a:gd name="adj2" fmla="val 38967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下腿浮腫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角丸四角形吹き出し 16"/>
          <p:cNvSpPr/>
          <p:nvPr/>
        </p:nvSpPr>
        <p:spPr>
          <a:xfrm>
            <a:off x="250920" y="3227400"/>
            <a:ext cx="1944720" cy="1800360"/>
          </a:xfrm>
          <a:prstGeom prst="wedgeRoundRectCallout">
            <a:avLst>
              <a:gd name="adj1" fmla="val 63402"/>
              <a:gd name="adj2" fmla="val -51106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肝：触知し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黄疸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、腹水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角丸四角形吹き出し 17"/>
          <p:cNvSpPr/>
          <p:nvPr/>
        </p:nvSpPr>
        <p:spPr>
          <a:xfrm>
            <a:off x="3635280" y="4595760"/>
            <a:ext cx="1152720" cy="432000"/>
          </a:xfrm>
          <a:prstGeom prst="wedgeRoundRectCallout">
            <a:avLst>
              <a:gd name="adj1" fmla="val -41166"/>
              <a:gd name="adj2" fmla="val -87467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手掌紅斑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図 1" descr=""/>
          <p:cNvPicPr/>
          <p:nvPr/>
        </p:nvPicPr>
        <p:blipFill>
          <a:blip r:embed="rId1"/>
          <a:srcRect l="2421" t="9534" r="10519" b="13059"/>
          <a:stretch/>
        </p:blipFill>
        <p:spPr>
          <a:xfrm>
            <a:off x="163440" y="836640"/>
            <a:ext cx="5962680" cy="3313080"/>
          </a:xfrm>
          <a:prstGeom prst="rect">
            <a:avLst/>
          </a:prstGeom>
          <a:ln w="0">
            <a:noFill/>
          </a:ln>
        </p:spPr>
      </p:pic>
      <p:sp>
        <p:nvSpPr>
          <p:cNvPr id="688" name="角丸四角形 27"/>
          <p:cNvSpPr/>
          <p:nvPr/>
        </p:nvSpPr>
        <p:spPr>
          <a:xfrm>
            <a:off x="3144960" y="4076640"/>
            <a:ext cx="5610240" cy="19717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Calibri"/>
              </a:rPr>
              <a:t>血管造影所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・病変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に対して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％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BCA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を使用し、塞栓を行った。確認の造影で、近位側の血流の残存を認めたため、コイルを使用して中枢側の塞栓を行っ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・病変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に対して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％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BCA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で動脈瘤の塞栓を行った。確認の造影で、動脈瘤は描出されなくなっ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・塞栓後、若干の左腹部の痛みを訴えていたが、経過観察とし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54080" y="46080"/>
            <a:ext cx="9144000" cy="79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治療記録（臨床実習</a:t>
            </a: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Ⅱ</a:t>
            </a: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テキスト ボックス 49"/>
          <p:cNvSpPr/>
          <p:nvPr/>
        </p:nvSpPr>
        <p:spPr>
          <a:xfrm>
            <a:off x="395280" y="4400640"/>
            <a:ext cx="1873080" cy="74484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30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歳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回ほど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アルコール性急性膵炎の既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あ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テキスト ボックス 54"/>
          <p:cNvSpPr/>
          <p:nvPr/>
        </p:nvSpPr>
        <p:spPr>
          <a:xfrm>
            <a:off x="6168960" y="1844640"/>
            <a:ext cx="1932120" cy="542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令和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年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膵炎後の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膵仮性嚢胞感染の疑い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、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入院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し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四角形: 角を丸くする 6"/>
          <p:cNvSpPr/>
          <p:nvPr/>
        </p:nvSpPr>
        <p:spPr>
          <a:xfrm>
            <a:off x="7134120" y="2952720"/>
            <a:ext cx="1584360" cy="649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抗生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メロペ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g×3/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日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で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症状が改善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し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曲折矢印 15"/>
          <p:cNvSpPr/>
          <p:nvPr/>
        </p:nvSpPr>
        <p:spPr>
          <a:xfrm flipH="1" rot="10800000">
            <a:off x="6588000" y="2695320"/>
            <a:ext cx="395280" cy="677880"/>
          </a:xfrm>
          <a:custGeom>
            <a:avLst/>
            <a:gdLst/>
            <a:ahLst/>
            <a:rect l="l" t="t" r="r" b="b"/>
            <a:pathLst>
              <a:path w="395288" h="677863">
                <a:moveTo>
                  <a:pt x="0" y="677863"/>
                </a:moveTo>
                <a:lnTo>
                  <a:pt x="0" y="222350"/>
                </a:lnTo>
                <a:cubicBezTo>
                  <a:pt x="0" y="126838"/>
                  <a:pt x="77427" y="49411"/>
                  <a:pt x="172939" y="49411"/>
                </a:cubicBezTo>
                <a:lnTo>
                  <a:pt x="296466" y="49411"/>
                </a:lnTo>
                <a:lnTo>
                  <a:pt x="296466" y="0"/>
                </a:lnTo>
                <a:lnTo>
                  <a:pt x="395288" y="98822"/>
                </a:lnTo>
                <a:lnTo>
                  <a:pt x="296466" y="197644"/>
                </a:lnTo>
                <a:lnTo>
                  <a:pt x="296466" y="148233"/>
                </a:lnTo>
                <a:lnTo>
                  <a:pt x="172939" y="148233"/>
                </a:lnTo>
                <a:cubicBezTo>
                  <a:pt x="132005" y="148233"/>
                  <a:pt x="98822" y="181416"/>
                  <a:pt x="98822" y="222350"/>
                </a:cubicBezTo>
                <a:lnTo>
                  <a:pt x="98822" y="677863"/>
                </a:lnTo>
                <a:lnTo>
                  <a:pt x="0" y="677863"/>
                </a:lnTo>
                <a:close/>
              </a:path>
            </a:pathLst>
          </a:cu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06:56:55Z</dcterms:created>
  <dc:creator>TERAI</dc:creator>
  <dc:description/>
  <dc:language>en-US</dc:language>
  <cp:lastModifiedBy>小山 究太郎</cp:lastModifiedBy>
  <cp:lastPrinted>2015-02-02T01:37:24Z</cp:lastPrinted>
  <dcterms:modified xsi:type="dcterms:W3CDTF">2021-06-15T07:11:37Z</dcterms:modified>
  <cp:revision>118</cp:revision>
  <dc:subject/>
  <dc:title>肝胆膵病態学総論</dc:title>
</cp:coreProperties>
</file>