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3E53-1ED8-4B47-BD63-4572EF114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01800" y="739800"/>
            <a:ext cx="4932360" cy="3700440"/>
          </a:xfrm>
          <a:prstGeom prst="rect">
            <a:avLst/>
          </a:prstGeom>
          <a:ln w="0">
            <a:noFill/>
          </a:ln>
        </p:spPr>
      </p:sp>
      <p:sp>
        <p:nvSpPr>
          <p:cNvPr id="74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実習時、実際の学生作らせている</a:t>
            </a:r>
            <a:r>
              <a:rPr b="0" lang="en-US" sz="1200" spc="-1" strike="noStrike">
                <a:solidFill>
                  <a:srgbClr val="000000"/>
                </a:solidFill>
                <a:latin typeface="Arial"/>
              </a:rPr>
              <a:t>3</a:t>
            </a:r>
            <a:r>
              <a:rPr b="0" lang="ja-JP" sz="1200" spc="-1" strike="noStrike">
                <a:solidFill>
                  <a:srgbClr val="000000"/>
                </a:solidFill>
                <a:latin typeface="Arial"/>
              </a:rPr>
              <a:t>枚の絵のうち最初の臨床経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1AAE-BFEE-4FB3-8B58-2077D54C228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身体所見のまとめ、全身像で表現させ、また内服剤を使った上での現症を作成してもら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多くの投薬がされて、今があれば大事な情報なのでそうしています。</a:t>
            </a: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5BA8-78B2-431A-9888-B2854BBE6EF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肝障害度分類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項目以上の項目に該当した肝障害度が二か所に生じる場合には高い方の肝障害度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えば</a:t>
            </a: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２こなら肝障害度</a:t>
            </a:r>
            <a:r>
              <a:rPr b="0" lang="en-US" sz="1200" spc="-1" strike="noStrike">
                <a:solidFill>
                  <a:srgbClr val="000000"/>
                </a:solidFill>
                <a:latin typeface="Arial"/>
              </a:rPr>
              <a:t>B</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１こ、</a:t>
            </a:r>
            <a:r>
              <a:rPr b="0" lang="en-US" sz="1200" spc="-1" strike="noStrike">
                <a:solidFill>
                  <a:srgbClr val="000000"/>
                </a:solidFill>
                <a:latin typeface="Arial"/>
              </a:rPr>
              <a:t>C</a:t>
            </a:r>
            <a:r>
              <a:rPr b="0" lang="ja-JP" sz="1200" spc="-1" strike="noStrike">
                <a:solidFill>
                  <a:srgbClr val="000000"/>
                </a:solidFill>
                <a:latin typeface="Arial"/>
              </a:rPr>
              <a:t>が１こなら</a:t>
            </a:r>
            <a:r>
              <a:rPr b="0" lang="en-US" sz="1200" spc="-1" strike="noStrike">
                <a:solidFill>
                  <a:srgbClr val="000000"/>
                </a:solidFill>
                <a:latin typeface="Arial"/>
              </a:rPr>
              <a:t>B</a:t>
            </a:r>
            <a:r>
              <a:rPr b="0" lang="ja-JP" sz="1200" spc="-1" strike="noStrike">
                <a:solidFill>
                  <a:srgbClr val="000000"/>
                </a:solidFill>
                <a:latin typeface="Arial"/>
              </a:rPr>
              <a:t>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a:t>
            </a:r>
            <a:r>
              <a:rPr b="0" lang="en-US" sz="1200" spc="-1" strike="noStrike">
                <a:solidFill>
                  <a:srgbClr val="000000"/>
                </a:solidFill>
                <a:latin typeface="Arial"/>
              </a:rPr>
              <a:t>3</a:t>
            </a:r>
            <a:r>
              <a:rPr b="0" lang="ja-JP" sz="1200" spc="-1" strike="noStrike">
                <a:solidFill>
                  <a:srgbClr val="000000"/>
                </a:solidFill>
                <a:latin typeface="Arial"/>
              </a:rPr>
              <a:t>枚の図をつくることで、患者の全体像がわかり経過がわかります。この図</a:t>
            </a:r>
            <a:r>
              <a:rPr b="0" lang="en-US" sz="1200" spc="-1" strike="noStrike">
                <a:solidFill>
                  <a:srgbClr val="000000"/>
                </a:solidFill>
                <a:latin typeface="Arial"/>
              </a:rPr>
              <a:t>3</a:t>
            </a:r>
            <a:r>
              <a:rPr b="0" lang="ja-JP" sz="1200" spc="-1" strike="noStrike">
                <a:solidFill>
                  <a:srgbClr val="000000"/>
                </a:solidFill>
                <a:latin typeface="Arial"/>
              </a:rPr>
              <a:t>枚を使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判断の可否、今の状況、今後の問題点などを討議しています。</a:t>
            </a: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5B45-4400-437E-926C-C2334D1C095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4C4154-59F9-4474-8687-82EC083893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88D1C3-E23B-43FF-B9E8-B35FC483877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3FE2BA-B479-49F1-A977-0448B5B91B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FE3E6A-DE1B-4FF9-884B-76ABB989146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EC526F-EBF9-4200-8C8E-E3E3BAF083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802501-1F04-4223-86FE-65DD423313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5153D6B-4467-4CD9-A7CD-B57A48BFF4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B280745-3498-44E6-B63A-6C78886FA12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888B59-E299-4B44-94EA-88B545E88C2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5C8D593-BA9F-408D-A40E-ADED7A20828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0E064D9-FD03-451E-B2BF-37ADBE70ECB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7EE54DE-2B71-44D3-8892-E0FD08A6A6E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0B25092-EB1E-4E83-AD52-A845D451FA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A462F1F1-94D4-4110-8966-131C7FBD69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0A14616-C611-417F-8A67-A31EA27B2F1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0306A5F-E3B7-44DE-84C5-3D3D28FF17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B4E7167-710D-40E9-9E82-FD20569D79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C978290-183D-4B42-9BED-FFB36C079E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55A4FA9-A599-4C66-95F8-52A6207458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74937A3-FFC4-489B-8904-E2EF88B861C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D73A79C-6C2E-4006-B9F8-91A7E87F0E3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2B7A971-268F-412F-A645-A5C77FEEC37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7E1857FA-F7A3-46A2-A2E1-4DB28DEA4E6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DE6408E-212C-4BBC-B221-187153D10E2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6FADE9E-BE98-44D5-A89B-B67FB8ECF6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21120DCB-E6D7-4CF9-AE99-C4A10604415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EBAF8609-E177-44B6-AAF6-5742837C11C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1154A0B-55D6-4825-B66E-2E69457A929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EC2EE9A-1AD2-4B90-B8F1-29EE5A7DAB2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D854B5C-1EEE-4DB1-8C34-F94EFBFEDBB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624BE52F-4B7A-485C-ADE1-0220FC89931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73387EAE-BE08-4AE6-98DA-3C104E23D27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FAFAC71D-B523-44C7-A198-0B17E08D321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4E1187-EA8C-4481-9A5B-D40A8800B4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450DDF-1A61-4D32-A5D3-D920BBE2C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FB4ED0-A4D3-46B9-B647-D19D74A8A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ACD397-5269-41A4-B1A7-654E36C18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2A53F1-DC71-449A-8C48-082B843D7B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08A6D-6759-47F0-8C52-B92C9AA208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E277D-CCE2-442E-A22A-B4B646D8C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D8791-72D5-45A5-A100-3B92E9A4A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8F57A-FC4D-4B87-90D1-C1EB29F80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341E76-1508-4A77-B5AD-23A906811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1C9AE-4DC2-430B-A513-A15D6F7894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5081A1-80C1-4E6D-9EDB-1E16E61092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124EC6-A913-4B9E-A54C-984872ED09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B53867-9AAF-4305-ACF8-40E56ECDC3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ADB8ED-C911-48C2-9784-FD65194B6B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4D924-9DF7-447B-A3FF-E396981E2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E6B78-D43E-4603-8F44-6EDFACF67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C49496-1537-4B99-8ACF-1828505F46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D3F5E-7E4A-4D6D-8F92-B404AFFB2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B3876B-E7F8-40E4-AC00-214DCECC4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6BEEC-545A-486F-A48F-FDEB2174F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531D2-808E-45C5-94B4-4FF3DA720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343E04-7448-4399-B197-F275003AF5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EC6D27-2782-449C-A3C0-B51516429C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FE27733-4E67-4E5C-AFA2-67303EE1A1A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96708A0-43F5-487F-AA47-B425776801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8BEA014-49E9-4D92-97BD-0B5173214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6E2502B1-40AD-4206-802C-DE41F41571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40C0E66-ECDF-466D-AC18-1BDD7E0282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CBCB8F6B-2211-4D0A-9BA7-C7ECA2BE85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7126384-AF05-4626-A110-97C06AFDE2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AC142F5-09B6-4D86-9156-4003BB6633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ED277CC-2DF7-4D00-9AD4-E88B9CD14A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CDE35C0-FAA6-4960-82FA-29B0DBE250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19A1418-4323-451A-B761-C933C8E6D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D3BB24E-CFE0-48F7-88FF-BD86127C236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101B2F-F997-478E-AC02-9E51D627E20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43B9DC-A003-43B0-A4B9-8ECC434B1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1F6A55-F0DD-4932-94D6-F2FABD40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A8211E-3D0C-4F23-9A49-322664D98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91FB043-337D-4DB9-9456-5986F7BC6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D1BD346-F111-4335-A23B-8668FB635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6110EB-0A91-4EAB-A0C8-437695C90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6033212-6D22-4676-AF5E-492F68A68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8FC193-5AF3-4E81-8BA3-2AFC6F0B9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781F6F-72FB-480E-B242-6A48B64E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5B9700F-72C2-4D15-8691-84BB5FEA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B0D8EE7-FBAF-4C2E-A549-6CD12C95F2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C286D3-09DD-4E7D-96DA-87DE95993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DB058-46C2-4EF3-B8A3-3DBC75DE7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5ABE8-A134-48EF-B032-15448E8AD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ECB52-F482-4B77-A078-A230EF76F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2E3495-C839-4CFA-B2B6-D4EF29718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494DB-0793-4D06-8B61-B655ED1E0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6625D-B28A-4362-9608-D040AD9CC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64208-DEE5-41AA-AD59-E7F4F24E9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B8B0A-D504-476D-B46F-1625F8D8B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190ACD-449C-458B-AB3C-57289CCF8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13C551-30A4-4B57-AD87-F87E7447E9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6C29C-6E51-4185-BC93-FB2FA8C835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E34AA4-B0D0-499C-8C4E-485DD1A9FA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610AB7-EB9A-48C6-A091-F73C013AE2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715161-234D-4327-BA1A-15E8E89B27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29A38A-BDC7-42EB-8ECC-9A992843B1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BCEBD7-D4A8-49E4-A7F5-DC835A35E5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DC5DCD-F34C-41AF-8C54-E6511687CC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27B9B9-80F3-4CFB-AF34-3826D8FB44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FFE4FF-641F-4E19-BE10-5392560B81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FE9A9C-01E8-4A69-99B4-1C4D6D9AA8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B5ED13-5A2A-47A7-883E-71A77C36B5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424475-DAB7-4C67-8ECF-FC07A624AB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87E8F3-AB57-42E7-85C7-C81C5323DC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DBC53C8-9083-4AD9-B892-721CFFAFCC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521CE8-1CA4-4FE4-AE6C-B99C0CA061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699F90-E364-433F-A948-799FD10248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65086E-D6BF-4C6B-BE9A-E114523C63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461D3F-3C56-42E2-A1C0-ABBAC0B087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F79A66-5943-4B3E-A9A4-A4CBBAD07D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6009F0-B0FA-4CD2-B673-DDBA7FC98E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48DC93-D741-4581-BC17-95DA7C65E9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DE8AE9-DD38-4CCA-BB06-C3C347CAD5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5C1275-2D0A-4611-AC79-70DD004FF7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961040-B0B2-4788-B740-ECA4C0C1C7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DF0CBA-A38E-4034-BCBE-6210E221F8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2706E3F-85AD-4275-BBF5-DB0DEB6C9D9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5E1BA8C-10D1-49EB-93EA-827DAB4083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B16C2A-5E24-4CDA-B07C-4B181E8C8AF2}"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FC90-BD92-44F7-A4DD-36F9CA4EB6D7}" type="datetime">
              <a:rPr b="0" lang="ja-JP" sz="2400" spc="-1" strike="noStrike">
                <a:solidFill>
                  <a:srgbClr val="000000"/>
                </a:solidFill>
                <a:latin typeface="Times New Roman"/>
              </a:rPr>
              <a:t>26/07/31</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6985-9D7A-4081-A36E-D334ADBCA50A}"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09DB-3AEA-44A3-90AC-1B1E7EDA9B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B532-2A4E-4575-B91D-F71562AC3A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1CC6-A9A8-4A9A-95F6-06DC2ED2A1D0}"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085D-14FA-4653-816D-C37284730B1B}" type="datetime">
              <a:rPr b="0" lang="ja-JP" sz="2400" spc="-1" strike="noStrike">
                <a:solidFill>
                  <a:srgbClr val="000000"/>
                </a:solidFill>
                <a:latin typeface="Times New Roman"/>
              </a:rPr>
              <a:t>26/07/31</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E824-D7C8-4F75-AEBB-87E0F59F6AB2}"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A2E8-7529-4E18-B642-93B9194F44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24F6-AF9C-4A1D-8974-9347B9E747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4274-E64B-4BB4-8792-35784BBF4C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3BAD-72C2-4F94-9863-94C1F8EAFF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6AD1-6AE3-442F-93F4-F0522762CA39}"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1476360" y="907920"/>
            <a:ext cx="7351560" cy="442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無症状で発見された</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胆管癌の一例</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83"/>
          <p:cNvSpPr/>
          <p:nvPr/>
        </p:nvSpPr>
        <p:spPr>
          <a:xfrm>
            <a:off x="7812000" y="1989000"/>
            <a:ext cx="0" cy="21607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3776760" y="2008080"/>
            <a:ext cx="0" cy="851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7"/>
          <p:cNvSpPr/>
          <p:nvPr/>
        </p:nvSpPr>
        <p:spPr>
          <a:xfrm>
            <a:off x="8317080" y="1996920"/>
            <a:ext cx="0" cy="33512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ＭＳ Ｐゴシック"/>
              </a:rPr>
              <a:t>現病歴 既往歴 治療介入</a:t>
            </a:r>
            <a:endParaRPr b="0" lang="en-US" sz="3200" spc="-1" strike="noStrike">
              <a:solidFill>
                <a:srgbClr val="000000"/>
              </a:solidFill>
              <a:latin typeface="Calibri"/>
            </a:endParaRPr>
          </a:p>
        </p:txBody>
      </p:sp>
      <p:grpSp>
        <p:nvGrpSpPr>
          <p:cNvPr id="687" name="グループ化 29"/>
          <p:cNvGrpSpPr/>
          <p:nvPr/>
        </p:nvGrpSpPr>
        <p:grpSpPr>
          <a:xfrm>
            <a:off x="34920" y="1698480"/>
            <a:ext cx="8749800" cy="4008960"/>
            <a:chOff x="34920" y="1698480"/>
            <a:chExt cx="8749800" cy="4008960"/>
          </a:xfrm>
        </p:grpSpPr>
        <p:sp>
          <p:nvSpPr>
            <p:cNvPr id="688" name="テキスト ボックス 39"/>
            <p:cNvSpPr/>
            <p:nvPr/>
          </p:nvSpPr>
          <p:spPr>
            <a:xfrm>
              <a:off x="5325840" y="2452320"/>
              <a:ext cx="1901520" cy="912600"/>
            </a:xfrm>
            <a:prstGeom prst="roundRect">
              <a:avLst>
                <a:gd name="adj" fmla="val 16667"/>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右胆管合流部、腫瘍部に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テキスト ボックス 21"/>
            <p:cNvSpPr/>
            <p:nvPr/>
          </p:nvSpPr>
          <p:spPr>
            <a:xfrm>
              <a:off x="3024000" y="3189240"/>
              <a:ext cx="1963440" cy="2295720"/>
            </a:xfrm>
            <a:custGeom>
              <a:avLst/>
              <a:gdLst>
                <a:gd name="textAreaLeft" fmla="*/ 95760 w 1963440"/>
                <a:gd name="textAreaRight" fmla="*/ 1867680 w 1963440"/>
                <a:gd name="textAreaTop" fmla="*/ 95760 h 2295720"/>
                <a:gd name="textAreaBottom" fmla="*/ 2199960 h 2295720"/>
              </a:gdLst>
              <a:ahLst/>
              <a:rect l="textAreaLeft" t="textAreaTop" r="textAreaRight" b="textAreaBottom"/>
              <a:pathLst>
                <a:path w="21600" h="25255">
                  <a:moveTo>
                    <a:pt x="3600" y="0"/>
                  </a:moveTo>
                  <a:arcTo wR="3600" hR="3600" stAng="16200000" swAng="-5400000"/>
                  <a:lnTo>
                    <a:pt x="0" y="21655"/>
                  </a:lnTo>
                  <a:arcTo wR="3600" hR="3600" stAng="10800000" swAng="-5400000"/>
                  <a:lnTo>
                    <a:pt x="18000" y="25255"/>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ERCP</a:t>
              </a:r>
              <a:r>
                <a:rPr b="1" lang="ja-JP" sz="1200" spc="-1" strike="noStrike">
                  <a:solidFill>
                    <a:srgbClr val="000000"/>
                  </a:solidFill>
                  <a:latin typeface="ＭＳ Ｐゴシック"/>
                </a:rPr>
                <a:t>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胆管狭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胆管拡張あ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内視鏡的経鼻ドレナージ</a:t>
              </a:r>
              <a:r>
                <a:rPr b="1" lang="en-US" sz="1200" spc="-1" strike="noStrike">
                  <a:solidFill>
                    <a:srgbClr val="000000"/>
                  </a:solidFill>
                  <a:latin typeface="ＭＳ Ｐゴシック"/>
                </a:rPr>
                <a:t>(ENBD)</a:t>
              </a:r>
              <a:r>
                <a:rPr b="1" lang="ja-JP" sz="1200" spc="-1" strike="noStrike">
                  <a:solidFill>
                    <a:srgbClr val="000000"/>
                  </a:solidFill>
                  <a:latin typeface="ＭＳ Ｐゴシック"/>
                </a:rPr>
                <a:t>を</a:t>
              </a:r>
              <a:r>
                <a:rPr b="1" lang="en-US" sz="1200" spc="-1" strike="noStrike">
                  <a:solidFill>
                    <a:srgbClr val="000000"/>
                  </a:solidFill>
                  <a:latin typeface="ＭＳ Ｐゴシック"/>
                </a:rPr>
                <a:t>B3</a:t>
              </a:r>
              <a:r>
                <a:rPr b="1" lang="ja-JP" sz="1200" spc="-1" strike="noStrike">
                  <a:solidFill>
                    <a:srgbClr val="000000"/>
                  </a:solidFill>
                  <a:latin typeface="ＭＳ Ｐゴシック"/>
                </a:rPr>
                <a:t>に留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肝内胆管分岐部</a:t>
              </a:r>
              <a:r>
                <a:rPr b="1" lang="en-US" sz="1200" spc="-1" strike="noStrike">
                  <a:solidFill>
                    <a:srgbClr val="000000"/>
                  </a:solidFill>
                  <a:latin typeface="ＭＳ Ｐゴシック"/>
                </a:rPr>
                <a:t>5/8</a:t>
              </a:r>
              <a:r>
                <a:rPr b="1" lang="ja-JP" sz="1200" spc="-1" strike="noStrike">
                  <a:solidFill>
                    <a:srgbClr val="000000"/>
                  </a:solidFill>
                  <a:latin typeface="ＭＳ Ｐゴシック"/>
                </a:rPr>
                <a:t>、膵内胆管、腫瘍部に対して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テキスト ボックス 25"/>
            <p:cNvSpPr/>
            <p:nvPr/>
          </p:nvSpPr>
          <p:spPr>
            <a:xfrm>
              <a:off x="4341240" y="1699920"/>
              <a:ext cx="55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23</a:t>
              </a:r>
              <a:endParaRPr b="0" lang="en-US" sz="1400" spc="-1" strike="noStrike">
                <a:solidFill>
                  <a:srgbClr val="000000"/>
                </a:solidFill>
                <a:latin typeface="Arial"/>
              </a:endParaRPr>
            </a:p>
          </p:txBody>
        </p:sp>
        <p:sp>
          <p:nvSpPr>
            <p:cNvPr id="691" name="テキスト ボックス 30"/>
            <p:cNvSpPr/>
            <p:nvPr/>
          </p:nvSpPr>
          <p:spPr>
            <a:xfrm>
              <a:off x="5689440" y="1698480"/>
              <a:ext cx="6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30</a:t>
              </a:r>
              <a:endParaRPr b="0" lang="en-US" sz="1400" spc="-1" strike="noStrike">
                <a:solidFill>
                  <a:srgbClr val="000000"/>
                </a:solidFill>
                <a:latin typeface="Arial"/>
              </a:endParaRPr>
            </a:p>
          </p:txBody>
        </p:sp>
        <p:sp>
          <p:nvSpPr>
            <p:cNvPr id="692" name="テキスト ボックス 6"/>
            <p:cNvSpPr/>
            <p:nvPr/>
          </p:nvSpPr>
          <p:spPr>
            <a:xfrm>
              <a:off x="34920" y="4761000"/>
              <a:ext cx="25542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 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 右乳癌に対し乳房全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腋窩リンパ節郭清</a:t>
              </a:r>
              <a:endParaRPr b="0" lang="en-US" sz="1400" spc="-1" strike="noStrike">
                <a:solidFill>
                  <a:srgbClr val="000000"/>
                </a:solidFill>
                <a:latin typeface="Arial"/>
              </a:endParaRPr>
            </a:p>
          </p:txBody>
        </p:sp>
        <p:sp>
          <p:nvSpPr>
            <p:cNvPr id="693" name="角丸四角形 13"/>
            <p:cNvSpPr/>
            <p:nvPr/>
          </p:nvSpPr>
          <p:spPr>
            <a:xfrm>
              <a:off x="2703240" y="2717640"/>
              <a:ext cx="1123920" cy="4125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当院当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94" name="テキスト ボックス 15"/>
            <p:cNvSpPr/>
            <p:nvPr/>
          </p:nvSpPr>
          <p:spPr>
            <a:xfrm>
              <a:off x="1944720" y="169848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 </a:t>
              </a:r>
              <a:endParaRPr b="0" lang="en-US" sz="1400" spc="-1" strike="noStrike">
                <a:solidFill>
                  <a:srgbClr val="000000"/>
                </a:solidFill>
                <a:latin typeface="Arial"/>
              </a:endParaRPr>
            </a:p>
          </p:txBody>
        </p:sp>
        <p:cxnSp>
          <p:nvCxnSpPr>
            <p:cNvPr id="695" name="直線矢印コネクタ 4"/>
            <p:cNvCxnSpPr/>
            <p:nvPr/>
          </p:nvCxnSpPr>
          <p:spPr>
            <a:xfrm>
              <a:off x="288360" y="1986840"/>
              <a:ext cx="8496720" cy="1080"/>
            </a:xfrm>
            <a:prstGeom prst="straightConnector1">
              <a:avLst/>
            </a:prstGeom>
            <a:ln w="76320">
              <a:solidFill>
                <a:srgbClr val="4a7ebb"/>
              </a:solidFill>
              <a:miter/>
              <a:tailEnd len="med" type="arrow" w="med"/>
            </a:ln>
          </p:spPr>
        </p:cxnSp>
        <p:sp>
          <p:nvSpPr>
            <p:cNvPr id="696" name="角丸四角形 9"/>
            <p:cNvSpPr/>
            <p:nvPr/>
          </p:nvSpPr>
          <p:spPr>
            <a:xfrm>
              <a:off x="1109520" y="2198520"/>
              <a:ext cx="1771560" cy="4064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MRCP</a:t>
              </a:r>
              <a:r>
                <a:rPr b="0" lang="ja-JP" sz="1100" spc="-1" strike="noStrike">
                  <a:solidFill>
                    <a:srgbClr val="000000"/>
                  </a:solidFill>
                  <a:latin typeface="ＭＳ Ｐゴシック"/>
                </a:rPr>
                <a:t>施行</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門部胆管癌疑い</a:t>
              </a:r>
              <a:endParaRPr b="0" lang="en-US" sz="1100" spc="-1" strike="noStrike">
                <a:solidFill>
                  <a:srgbClr val="000000"/>
                </a:solidFill>
                <a:latin typeface="Arial"/>
              </a:endParaRPr>
            </a:p>
          </p:txBody>
        </p:sp>
      </p:grpSp>
      <p:sp>
        <p:nvSpPr>
          <p:cNvPr id="697" name="直線コネクタ 45"/>
          <p:cNvSpPr/>
          <p:nvPr/>
        </p:nvSpPr>
        <p:spPr>
          <a:xfrm>
            <a:off x="2411280" y="2008080"/>
            <a:ext cx="0" cy="160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テキスト ボックス 3"/>
          <p:cNvSpPr/>
          <p:nvPr/>
        </p:nvSpPr>
        <p:spPr>
          <a:xfrm>
            <a:off x="3743280" y="977760"/>
            <a:ext cx="197136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74</a:t>
            </a:r>
            <a:r>
              <a:rPr b="1" lang="ja-JP" sz="2000" spc="-1" strike="noStrike">
                <a:solidFill>
                  <a:srgbClr val="000000"/>
                </a:solidFill>
                <a:latin typeface="ＭＳ Ｐゴシック"/>
              </a:rPr>
              <a:t>歳女性 胆管癌の疑い</a:t>
            </a:r>
            <a:endParaRPr b="0" lang="en-US" sz="2000" spc="-1" strike="noStrike">
              <a:solidFill>
                <a:srgbClr val="000000"/>
              </a:solidFill>
              <a:latin typeface="Arial"/>
            </a:endParaRPr>
          </a:p>
        </p:txBody>
      </p:sp>
      <p:sp>
        <p:nvSpPr>
          <p:cNvPr id="699" name="テキスト ボックス 56"/>
          <p:cNvSpPr/>
          <p:nvPr/>
        </p:nvSpPr>
        <p:spPr>
          <a:xfrm>
            <a:off x="2004120" y="147636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1</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0" name="テキスト ボックス 56"/>
          <p:cNvSpPr/>
          <p:nvPr/>
        </p:nvSpPr>
        <p:spPr>
          <a:xfrm>
            <a:off x="108000" y="1482840"/>
            <a:ext cx="127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0</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1" name="直線コネクタ 54"/>
          <p:cNvSpPr/>
          <p:nvPr/>
        </p:nvSpPr>
        <p:spPr>
          <a:xfrm flipV="1">
            <a:off x="554040" y="2007720"/>
            <a:ext cx="0" cy="792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角丸四角形 58"/>
          <p:cNvSpPr/>
          <p:nvPr/>
        </p:nvSpPr>
        <p:spPr>
          <a:xfrm>
            <a:off x="34920" y="2800440"/>
            <a:ext cx="1784520" cy="114768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腎機能低下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精査目的に前医受診</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Cr:2.2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eGFR17.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エコーにて胆嚢腺筋腫症疑い</a:t>
            </a:r>
            <a:endParaRPr b="0" lang="en-US" sz="1000" spc="-1" strike="noStrike">
              <a:solidFill>
                <a:srgbClr val="000000"/>
              </a:solidFill>
              <a:latin typeface="Arial"/>
            </a:endParaRPr>
          </a:p>
        </p:txBody>
      </p:sp>
      <p:sp>
        <p:nvSpPr>
          <p:cNvPr id="703" name="テキスト ボックス 56"/>
          <p:cNvSpPr/>
          <p:nvPr/>
        </p:nvSpPr>
        <p:spPr>
          <a:xfrm>
            <a:off x="3512520" y="1689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18</a:t>
            </a:r>
            <a:endParaRPr b="0" lang="en-US" sz="1400" spc="-1" strike="noStrike">
              <a:solidFill>
                <a:srgbClr val="000000"/>
              </a:solidFill>
              <a:latin typeface="Arial"/>
            </a:endParaRPr>
          </a:p>
        </p:txBody>
      </p:sp>
      <p:sp>
        <p:nvSpPr>
          <p:cNvPr id="704" name="直線コネクタ 74"/>
          <p:cNvSpPr/>
          <p:nvPr/>
        </p:nvSpPr>
        <p:spPr>
          <a:xfrm>
            <a:off x="6084720" y="1989000"/>
            <a:ext cx="0" cy="463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テキスト ボックス 32"/>
          <p:cNvSpPr/>
          <p:nvPr/>
        </p:nvSpPr>
        <p:spPr>
          <a:xfrm>
            <a:off x="7523280" y="16970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7</a:t>
            </a:r>
            <a:endParaRPr b="0" lang="en-US" sz="1400" spc="-1" strike="noStrike">
              <a:solidFill>
                <a:srgbClr val="000000"/>
              </a:solidFill>
              <a:latin typeface="Arial"/>
            </a:endParaRPr>
          </a:p>
        </p:txBody>
      </p:sp>
      <p:sp>
        <p:nvSpPr>
          <p:cNvPr id="706" name="テキスト ボックス 2"/>
          <p:cNvSpPr/>
          <p:nvPr/>
        </p:nvSpPr>
        <p:spPr>
          <a:xfrm>
            <a:off x="351000" y="1712880"/>
            <a:ext cx="4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９月</a:t>
            </a:r>
            <a:endParaRPr b="0" lang="en-US" sz="1200" spc="-1" strike="noStrike">
              <a:solidFill>
                <a:srgbClr val="000000"/>
              </a:solidFill>
              <a:latin typeface="Arial"/>
            </a:endParaRPr>
          </a:p>
        </p:txBody>
      </p:sp>
      <p:sp>
        <p:nvSpPr>
          <p:cNvPr id="707" name="テキスト ボックス 5"/>
          <p:cNvSpPr/>
          <p:nvPr/>
        </p:nvSpPr>
        <p:spPr>
          <a:xfrm>
            <a:off x="2192400" y="1714680"/>
            <a:ext cx="56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月</a:t>
            </a:r>
            <a:endParaRPr b="0" lang="en-US" sz="1200" spc="-1" strike="noStrike">
              <a:solidFill>
                <a:srgbClr val="000000"/>
              </a:solidFill>
              <a:latin typeface="Arial"/>
            </a:endParaRPr>
          </a:p>
        </p:txBody>
      </p:sp>
      <p:sp>
        <p:nvSpPr>
          <p:cNvPr id="708" name="角丸四角形 13"/>
          <p:cNvSpPr/>
          <p:nvPr/>
        </p:nvSpPr>
        <p:spPr>
          <a:xfrm>
            <a:off x="5011560" y="5573880"/>
            <a:ext cx="1124280" cy="6188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悪性細胞認められなかった</a:t>
            </a:r>
            <a:endParaRPr b="0" lang="en-US" sz="1100" spc="-1" strike="noStrike">
              <a:solidFill>
                <a:srgbClr val="000000"/>
              </a:solidFill>
              <a:latin typeface="Arial"/>
            </a:endParaRPr>
          </a:p>
        </p:txBody>
      </p:sp>
      <p:sp>
        <p:nvSpPr>
          <p:cNvPr id="709" name="角丸四角形 13"/>
          <p:cNvSpPr/>
          <p:nvPr/>
        </p:nvSpPr>
        <p:spPr>
          <a:xfrm>
            <a:off x="7405560" y="4138560"/>
            <a:ext cx="1346400" cy="1022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加療目的に当院消化器外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CG(R15): 4.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hild-Pugh: A(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FIB-4 index: 1.42</a:t>
            </a:r>
            <a:endParaRPr b="0" lang="en-US" sz="1100" spc="-1" strike="noStrike">
              <a:solidFill>
                <a:srgbClr val="000000"/>
              </a:solidFill>
              <a:latin typeface="Arial"/>
            </a:endParaRPr>
          </a:p>
        </p:txBody>
      </p:sp>
      <p:sp>
        <p:nvSpPr>
          <p:cNvPr id="710" name="曲折矢印 36"/>
          <p:cNvSpPr/>
          <p:nvPr/>
        </p:nvSpPr>
        <p:spPr>
          <a:xfrm flipH="1" rot="10800000">
            <a:off x="2430360" y="2576160"/>
            <a:ext cx="287280" cy="360360"/>
          </a:xfrm>
          <a:custGeom>
            <a:avLst/>
            <a:gdLst/>
            <a:ahLst/>
            <a:rect l="l" t="t" r="r" b="b"/>
            <a:pathLst>
              <a:path w="287337" h="360362">
                <a:moveTo>
                  <a:pt x="0" y="360362"/>
                </a:moveTo>
                <a:lnTo>
                  <a:pt x="0" y="161627"/>
                </a:lnTo>
                <a:cubicBezTo>
                  <a:pt x="0" y="92199"/>
                  <a:pt x="56282" y="35917"/>
                  <a:pt x="125710" y="35917"/>
                </a:cubicBezTo>
                <a:lnTo>
                  <a:pt x="215503" y="35917"/>
                </a:lnTo>
                <a:lnTo>
                  <a:pt x="215503" y="0"/>
                </a:lnTo>
                <a:lnTo>
                  <a:pt x="287337" y="71834"/>
                </a:lnTo>
                <a:lnTo>
                  <a:pt x="215503" y="143669"/>
                </a:lnTo>
                <a:lnTo>
                  <a:pt x="215503" y="107751"/>
                </a:lnTo>
                <a:lnTo>
                  <a:pt x="125710" y="107751"/>
                </a:lnTo>
                <a:cubicBezTo>
                  <a:pt x="95955" y="107751"/>
                  <a:pt x="71834" y="131872"/>
                  <a:pt x="71834" y="161627"/>
                </a:cubicBezTo>
                <a:lnTo>
                  <a:pt x="71834" y="360362"/>
                </a:lnTo>
                <a:lnTo>
                  <a:pt x="0" y="36036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曲折矢印 36"/>
          <p:cNvSpPr/>
          <p:nvPr/>
        </p:nvSpPr>
        <p:spPr>
          <a:xfrm flipH="1" rot="10800000">
            <a:off x="4721400" y="5635440"/>
            <a:ext cx="380880" cy="425160"/>
          </a:xfrm>
          <a:custGeom>
            <a:avLst/>
            <a:gdLst/>
            <a:ahLst/>
            <a:rect l="l" t="t" r="r" b="b"/>
            <a:pathLst>
              <a:path w="381000" h="425450">
                <a:moveTo>
                  <a:pt x="0" y="425450"/>
                </a:moveTo>
                <a:lnTo>
                  <a:pt x="0" y="214313"/>
                </a:lnTo>
                <a:cubicBezTo>
                  <a:pt x="0" y="122254"/>
                  <a:pt x="74629" y="47625"/>
                  <a:pt x="166688" y="47625"/>
                </a:cubicBezTo>
                <a:lnTo>
                  <a:pt x="285750" y="47625"/>
                </a:lnTo>
                <a:lnTo>
                  <a:pt x="285750" y="0"/>
                </a:lnTo>
                <a:lnTo>
                  <a:pt x="381000" y="95250"/>
                </a:lnTo>
                <a:lnTo>
                  <a:pt x="285750" y="190500"/>
                </a:lnTo>
                <a:lnTo>
                  <a:pt x="285750" y="142875"/>
                </a:lnTo>
                <a:lnTo>
                  <a:pt x="166688" y="142875"/>
                </a:lnTo>
                <a:cubicBezTo>
                  <a:pt x="127234" y="142875"/>
                  <a:pt x="95250" y="174859"/>
                  <a:pt x="95250" y="214313"/>
                </a:cubicBezTo>
                <a:lnTo>
                  <a:pt x="95250" y="425450"/>
                </a:lnTo>
                <a:lnTo>
                  <a:pt x="0" y="4254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曲折矢印 36"/>
          <p:cNvSpPr/>
          <p:nvPr/>
        </p:nvSpPr>
        <p:spPr>
          <a:xfrm flipV="1">
            <a:off x="5572080" y="3459240"/>
            <a:ext cx="407880" cy="558720"/>
          </a:xfrm>
          <a:custGeom>
            <a:avLst/>
            <a:gdLst/>
            <a:ahLst/>
            <a:rect l="l" t="t" r="r" b="b"/>
            <a:pathLst>
              <a:path w="407988" h="558800">
                <a:moveTo>
                  <a:pt x="0" y="558800"/>
                </a:moveTo>
                <a:lnTo>
                  <a:pt x="0" y="229493"/>
                </a:lnTo>
                <a:cubicBezTo>
                  <a:pt x="0" y="130913"/>
                  <a:pt x="79915" y="50998"/>
                  <a:pt x="178495" y="50998"/>
                </a:cubicBezTo>
                <a:lnTo>
                  <a:pt x="305991" y="50999"/>
                </a:lnTo>
                <a:lnTo>
                  <a:pt x="305991" y="0"/>
                </a:lnTo>
                <a:lnTo>
                  <a:pt x="407988" y="101997"/>
                </a:lnTo>
                <a:lnTo>
                  <a:pt x="305991" y="203994"/>
                </a:lnTo>
                <a:lnTo>
                  <a:pt x="305991" y="152996"/>
                </a:lnTo>
                <a:lnTo>
                  <a:pt x="178495" y="152996"/>
                </a:lnTo>
                <a:cubicBezTo>
                  <a:pt x="136246" y="152996"/>
                  <a:pt x="101997" y="187245"/>
                  <a:pt x="101997" y="229494"/>
                </a:cubicBezTo>
                <a:lnTo>
                  <a:pt x="101997"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曲折矢印 36"/>
          <p:cNvSpPr/>
          <p:nvPr/>
        </p:nvSpPr>
        <p:spPr>
          <a:xfrm flipH="1" flipV="1" rot="16200000">
            <a:off x="7304760" y="3685680"/>
            <a:ext cx="366840" cy="558720"/>
          </a:xfrm>
          <a:custGeom>
            <a:avLst/>
            <a:gdLst/>
            <a:ahLst/>
            <a:rect l="l" t="t" r="r" b="b"/>
            <a:pathLst>
              <a:path w="366712" h="558800">
                <a:moveTo>
                  <a:pt x="0" y="558800"/>
                </a:moveTo>
                <a:lnTo>
                  <a:pt x="0" y="206276"/>
                </a:lnTo>
                <a:cubicBezTo>
                  <a:pt x="0" y="117669"/>
                  <a:pt x="71830" y="45839"/>
                  <a:pt x="160437" y="45839"/>
                </a:cubicBezTo>
                <a:lnTo>
                  <a:pt x="275034" y="45839"/>
                </a:lnTo>
                <a:lnTo>
                  <a:pt x="275034" y="0"/>
                </a:lnTo>
                <a:lnTo>
                  <a:pt x="366712" y="91678"/>
                </a:lnTo>
                <a:lnTo>
                  <a:pt x="275034" y="183356"/>
                </a:lnTo>
                <a:lnTo>
                  <a:pt x="275034" y="137517"/>
                </a:lnTo>
                <a:lnTo>
                  <a:pt x="160437" y="137517"/>
                </a:lnTo>
                <a:cubicBezTo>
                  <a:pt x="122462" y="137517"/>
                  <a:pt x="91678" y="168301"/>
                  <a:pt x="91678" y="206276"/>
                </a:cubicBezTo>
                <a:lnTo>
                  <a:pt x="91678"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角丸四角形 13"/>
          <p:cNvSpPr/>
          <p:nvPr/>
        </p:nvSpPr>
        <p:spPr>
          <a:xfrm>
            <a:off x="3905280" y="2859120"/>
            <a:ext cx="1270080" cy="4125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EA: 7.6ng/m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A19-9: 65U/mL</a:t>
            </a:r>
            <a:endParaRPr b="0" lang="en-US" sz="1100" spc="-1" strike="noStrike">
              <a:solidFill>
                <a:srgbClr val="000000"/>
              </a:solidFill>
              <a:latin typeface="Arial"/>
            </a:endParaRPr>
          </a:p>
        </p:txBody>
      </p:sp>
      <p:sp>
        <p:nvSpPr>
          <p:cNvPr id="715" name="曲折矢印 36"/>
          <p:cNvSpPr/>
          <p:nvPr/>
        </p:nvSpPr>
        <p:spPr>
          <a:xfrm flipH="1" rot="10800000">
            <a:off x="7669080" y="5168520"/>
            <a:ext cx="285840" cy="360360"/>
          </a:xfrm>
          <a:custGeom>
            <a:avLst/>
            <a:gdLst/>
            <a:ahLst/>
            <a:rect l="l" t="t" r="r" b="b"/>
            <a:pathLst>
              <a:path w="285750" h="360363">
                <a:moveTo>
                  <a:pt x="0" y="360363"/>
                </a:moveTo>
                <a:lnTo>
                  <a:pt x="0" y="160734"/>
                </a:lnTo>
                <a:cubicBezTo>
                  <a:pt x="0" y="91690"/>
                  <a:pt x="55972" y="35718"/>
                  <a:pt x="125016" y="35718"/>
                </a:cubicBezTo>
                <a:lnTo>
                  <a:pt x="214313" y="35719"/>
                </a:lnTo>
                <a:lnTo>
                  <a:pt x="214313" y="0"/>
                </a:lnTo>
                <a:lnTo>
                  <a:pt x="285750" y="71438"/>
                </a:lnTo>
                <a:lnTo>
                  <a:pt x="214313" y="142875"/>
                </a:lnTo>
                <a:lnTo>
                  <a:pt x="214313" y="107156"/>
                </a:lnTo>
                <a:lnTo>
                  <a:pt x="125016" y="107156"/>
                </a:lnTo>
                <a:cubicBezTo>
                  <a:pt x="95426" y="107156"/>
                  <a:pt x="71438" y="131144"/>
                  <a:pt x="71438" y="160734"/>
                </a:cubicBezTo>
                <a:lnTo>
                  <a:pt x="71438" y="360363"/>
                </a:lnTo>
                <a:lnTo>
                  <a:pt x="0" y="360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角丸四角形 13"/>
          <p:cNvSpPr/>
          <p:nvPr/>
        </p:nvSpPr>
        <p:spPr>
          <a:xfrm>
            <a:off x="7932600" y="5321160"/>
            <a:ext cx="1123920" cy="628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拡大左葉切除術施行予定</a:t>
            </a:r>
            <a:endParaRPr b="0" lang="en-US" sz="1100" spc="-1" strike="noStrike">
              <a:solidFill>
                <a:srgbClr val="000000"/>
              </a:solidFill>
              <a:latin typeface="Arial"/>
            </a:endParaRPr>
          </a:p>
        </p:txBody>
      </p:sp>
      <p:sp>
        <p:nvSpPr>
          <p:cNvPr id="717" name="テキスト ボックス 32"/>
          <p:cNvSpPr/>
          <p:nvPr/>
        </p:nvSpPr>
        <p:spPr>
          <a:xfrm>
            <a:off x="8013600" y="1712880"/>
            <a:ext cx="57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8" name="直線コネクタ 43"/>
          <p:cNvSpPr/>
          <p:nvPr/>
        </p:nvSpPr>
        <p:spPr>
          <a:xfrm>
            <a:off x="4618080" y="1987560"/>
            <a:ext cx="0" cy="871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角丸四角形 13"/>
          <p:cNvSpPr/>
          <p:nvPr/>
        </p:nvSpPr>
        <p:spPr>
          <a:xfrm>
            <a:off x="6013440" y="3562200"/>
            <a:ext cx="1266840" cy="8067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両部位ともに</a:t>
            </a:r>
            <a:r>
              <a:rPr b="0" lang="en-US" sz="1100" spc="-1" strike="noStrike">
                <a:solidFill>
                  <a:srgbClr val="000000"/>
                </a:solidFill>
                <a:latin typeface="ＭＳ Ｐゴシック"/>
              </a:rPr>
              <a:t>Adenocarcinoma</a:t>
            </a:r>
            <a:r>
              <a:rPr b="0" lang="ja-JP" sz="1100" spc="-1" strike="noStrike">
                <a:solidFill>
                  <a:srgbClr val="000000"/>
                </a:solidFill>
                <a:latin typeface="ＭＳ Ｐゴシック"/>
              </a:rPr>
              <a:t>と診断</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3" descr="C:\Users\p039eb\Desktop\ポリクリ\全身図：前.png"/>
          <p:cNvPicPr/>
          <p:nvPr/>
        </p:nvPicPr>
        <p:blipFill>
          <a:blip r:embed="rId1"/>
          <a:stretch/>
        </p:blipFill>
        <p:spPr>
          <a:xfrm>
            <a:off x="1355760" y="1152360"/>
            <a:ext cx="2663640" cy="5183280"/>
          </a:xfrm>
          <a:prstGeom prst="rect">
            <a:avLst/>
          </a:prstGeom>
          <a:ln w="0">
            <a:noFill/>
          </a:ln>
        </p:spPr>
      </p:pic>
      <p:sp>
        <p:nvSpPr>
          <p:cNvPr id="721" name="PlaceHolder 1"/>
          <p:cNvSpPr>
            <a:spLocks noGrp="1"/>
          </p:cNvSpPr>
          <p:nvPr>
            <p:ph type="title"/>
          </p:nvPr>
        </p:nvSpPr>
        <p:spPr>
          <a:xfrm>
            <a:off x="23760" y="3816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身体所見のまとめ</a:t>
            </a:r>
            <a:endParaRPr b="0" lang="en-US" sz="3200" spc="-1" strike="noStrike">
              <a:solidFill>
                <a:srgbClr val="000000"/>
              </a:solidFill>
              <a:latin typeface="Calibri"/>
            </a:endParaRPr>
          </a:p>
        </p:txBody>
      </p:sp>
      <p:sp>
        <p:nvSpPr>
          <p:cNvPr id="722" name="テキスト ボックス 4"/>
          <p:cNvSpPr/>
          <p:nvPr/>
        </p:nvSpPr>
        <p:spPr>
          <a:xfrm>
            <a:off x="4965840" y="1090440"/>
            <a:ext cx="4116240" cy="388260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体温</a:t>
            </a:r>
            <a:r>
              <a:rPr b="1" lang="en-US" sz="1400" spc="-1" strike="noStrike">
                <a:solidFill>
                  <a:srgbClr val="000000"/>
                </a:solidFill>
                <a:latin typeface="ＭＳ Ｐゴシック"/>
              </a:rPr>
              <a:t>: 36.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脈拍</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03</a:t>
            </a:r>
            <a:r>
              <a:rPr b="1" lang="ja-JP" sz="1400" spc="-1" strike="noStrike">
                <a:solidFill>
                  <a:srgbClr val="000000"/>
                </a:solidFill>
                <a:latin typeface="ＭＳ Ｐゴシック"/>
              </a:rPr>
              <a:t>回</a:t>
            </a:r>
            <a:r>
              <a:rPr b="1" lang="en-US" sz="1400" spc="-1" strike="noStrike">
                <a:solidFill>
                  <a:srgbClr val="000000"/>
                </a:solidFill>
                <a:latin typeface="ＭＳ Ｐゴシック"/>
              </a:rPr>
              <a:t>/min,</a:t>
            </a:r>
            <a:r>
              <a:rPr b="1" lang="ja-JP" sz="1400" spc="-1" strike="noStrike">
                <a:solidFill>
                  <a:srgbClr val="000000"/>
                </a:solidFill>
                <a:latin typeface="ＭＳ Ｐゴシック"/>
              </a:rPr>
              <a:t> </a:t>
            </a:r>
            <a:r>
              <a:rPr b="1" lang="ja-JP" sz="1400" spc="-1" strike="noStrike">
                <a:solidFill>
                  <a:srgbClr val="000000"/>
                </a:solidFill>
                <a:latin typeface="ＭＳ Ｐゴシック"/>
              </a:rPr>
              <a:t>血圧</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57/92mmH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飲酒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喫煙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右乳癌（乳房全摘、腋窩リンパ節郭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ニフェジピン </a:t>
            </a:r>
            <a:r>
              <a:rPr b="1" lang="en-US" sz="1400" spc="-1" strike="noStrike">
                <a:solidFill>
                  <a:srgbClr val="000000"/>
                </a:solidFill>
                <a:latin typeface="ＭＳ Ｐゴシック"/>
              </a:rPr>
              <a:t>2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テルミサルタン </a:t>
            </a:r>
            <a:r>
              <a:rPr b="1" lang="en-US" sz="1400" spc="-1" strike="noStrike">
                <a:solidFill>
                  <a:srgbClr val="000000"/>
                </a:solidFill>
                <a:latin typeface="ＭＳ Ｐゴシック"/>
              </a:rPr>
              <a:t>40mg</a:t>
            </a:r>
            <a:endParaRPr b="0" lang="en-US" sz="1400" spc="-1" strike="noStrike">
              <a:solidFill>
                <a:srgbClr val="000000"/>
              </a:solidFill>
              <a:latin typeface="Arial"/>
            </a:endParaRPr>
          </a:p>
        </p:txBody>
      </p:sp>
      <p:sp>
        <p:nvSpPr>
          <p:cNvPr id="723" name="角丸四角形吹き出し 5"/>
          <p:cNvSpPr/>
          <p:nvPr/>
        </p:nvSpPr>
        <p:spPr>
          <a:xfrm>
            <a:off x="795240" y="900000"/>
            <a:ext cx="1727280" cy="935280"/>
          </a:xfrm>
          <a:prstGeom prst="wedgeRoundRectCallout">
            <a:avLst>
              <a:gd name="adj1" fmla="val 41222"/>
              <a:gd name="adj2" fmla="val 6423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リンパ節腫脹</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瞼結膜：貧血</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球結膜：黄染</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4" name="角丸四角形吹き出し 11"/>
          <p:cNvSpPr/>
          <p:nvPr/>
        </p:nvSpPr>
        <p:spPr>
          <a:xfrm>
            <a:off x="19080" y="2057400"/>
            <a:ext cx="2413080" cy="792000"/>
          </a:xfrm>
          <a:prstGeom prst="wedgeRoundRectCallout">
            <a:avLst>
              <a:gd name="adj1" fmla="val 60726"/>
              <a:gd name="adj2" fmla="val 3249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5" name="角丸四角形吹き出し 12"/>
          <p:cNvSpPr/>
          <p:nvPr/>
        </p:nvSpPr>
        <p:spPr>
          <a:xfrm>
            <a:off x="3308400" y="1820880"/>
            <a:ext cx="1655640" cy="1657440"/>
          </a:xfrm>
          <a:prstGeom prst="wedgeRoundRectCallout">
            <a:avLst>
              <a:gd name="adj1" fmla="val -59972"/>
              <a:gd name="adj2" fmla="val 33949"/>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p:txBody>
      </p:sp>
      <p:sp>
        <p:nvSpPr>
          <p:cNvPr id="726" name="角丸四角形吹き出し 27"/>
          <p:cNvSpPr/>
          <p:nvPr/>
        </p:nvSpPr>
        <p:spPr>
          <a:xfrm>
            <a:off x="1246320" y="5068800"/>
            <a:ext cx="115236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腿浮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7" name="角丸四角形吹き出し 16"/>
          <p:cNvSpPr/>
          <p:nvPr/>
        </p:nvSpPr>
        <p:spPr>
          <a:xfrm>
            <a:off x="755640" y="3227400"/>
            <a:ext cx="1515960" cy="103356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直線コネクタ 3"/>
          <p:cNvSpPr/>
          <p:nvPr/>
        </p:nvSpPr>
        <p:spPr>
          <a:xfrm>
            <a:off x="2771640" y="3341520"/>
            <a:ext cx="0" cy="28764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54080" y="46080"/>
            <a:ext cx="914400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経過</a:t>
            </a:r>
            <a:endParaRPr b="0" lang="en-US" sz="3200" spc="-1" strike="noStrike">
              <a:solidFill>
                <a:srgbClr val="000000"/>
              </a:solidFill>
              <a:latin typeface="Calibri"/>
            </a:endParaRPr>
          </a:p>
        </p:txBody>
      </p:sp>
      <p:sp>
        <p:nvSpPr>
          <p:cNvPr id="730" name="角丸四角形 7"/>
          <p:cNvSpPr/>
          <p:nvPr/>
        </p:nvSpPr>
        <p:spPr>
          <a:xfrm>
            <a:off x="108000" y="933480"/>
            <a:ext cx="4392720" cy="1127160"/>
          </a:xfrm>
          <a:prstGeom prst="roundRect">
            <a:avLst>
              <a:gd name="adj" fmla="val 16667"/>
            </a:avLst>
          </a:prstGeom>
          <a:solidFill>
            <a:srgbClr val="f2dcd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検査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下に示す</a:t>
            </a:r>
            <a:r>
              <a:rPr b="0" lang="en-US" sz="1400" spc="-1" strike="noStrike">
                <a:solidFill>
                  <a:srgbClr val="000000"/>
                </a:solidFill>
                <a:latin typeface="ＭＳ Ｐゴシック"/>
              </a:rPr>
              <a:t>ERCP</a:t>
            </a:r>
            <a:r>
              <a:rPr b="0" lang="ja-JP" sz="1400" spc="-1" strike="noStrike">
                <a:solidFill>
                  <a:srgbClr val="000000"/>
                </a:solidFill>
                <a:latin typeface="ＭＳ Ｐゴシック"/>
              </a:rPr>
              <a:t>で、矢印に示した位置に狭窄を認め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1" name="角丸四角形 12"/>
          <p:cNvSpPr/>
          <p:nvPr/>
        </p:nvSpPr>
        <p:spPr>
          <a:xfrm>
            <a:off x="4572000" y="790560"/>
            <a:ext cx="4471920" cy="2998800"/>
          </a:xfrm>
          <a:prstGeom prst="roundRect">
            <a:avLst>
              <a:gd name="adj" fmla="val 16667"/>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診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a:t>
            </a:r>
            <a:r>
              <a:rPr b="1" lang="ja-JP" sz="1400" spc="-1" strike="noStrike">
                <a:solidFill>
                  <a:srgbClr val="000000"/>
                </a:solidFill>
                <a:latin typeface="ＭＳ Ｐゴシック"/>
              </a:rPr>
              <a:t>肝門部胆管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2.</a:t>
            </a:r>
            <a:r>
              <a:rPr b="1" lang="ja-JP" sz="1400" spc="-1" strike="noStrike">
                <a:solidFill>
                  <a:srgbClr val="000000"/>
                </a:solidFill>
                <a:latin typeface="ＭＳ Ｐゴシック"/>
              </a:rPr>
              <a:t>慢性腎不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a:t>
            </a:r>
            <a:r>
              <a:rPr b="1" lang="ja-JP" sz="1400" spc="-1" strike="noStrike">
                <a:solidFill>
                  <a:srgbClr val="000000"/>
                </a:solidFill>
                <a:latin typeface="ＭＳ Ｐゴシック"/>
              </a:rPr>
              <a:t>高血圧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今後の治療方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胆管生検で</a:t>
            </a:r>
            <a:r>
              <a:rPr b="0" lang="en-US" sz="1400" spc="-1" strike="noStrike">
                <a:solidFill>
                  <a:srgbClr val="000000"/>
                </a:solidFill>
                <a:latin typeface="ＭＳ Ｐゴシック"/>
              </a:rPr>
              <a:t>Adenocarcinoma</a:t>
            </a:r>
            <a:r>
              <a:rPr b="0" lang="ja-JP" sz="1400" spc="-1" strike="noStrike">
                <a:solidFill>
                  <a:srgbClr val="000000"/>
                </a:solidFill>
                <a:latin typeface="ＭＳ Ｐゴシック"/>
              </a:rPr>
              <a:t>と診断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ICG(15</a:t>
            </a:r>
            <a:r>
              <a:rPr b="0" lang="ja-JP" sz="1400" spc="-1" strike="noStrike">
                <a:solidFill>
                  <a:srgbClr val="000000"/>
                </a:solidFill>
                <a:latin typeface="ＭＳ Ｐゴシック"/>
              </a:rPr>
              <a:t>分値</a:t>
            </a:r>
            <a:r>
              <a:rPr b="0" lang="en-US" sz="1400" spc="-1" strike="noStrike">
                <a:solidFill>
                  <a:srgbClr val="000000"/>
                </a:solidFill>
                <a:latin typeface="ＭＳ Ｐゴシック"/>
              </a:rPr>
              <a:t>) 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Child-Pugh A(5) </a:t>
            </a:r>
            <a:r>
              <a:rPr b="0" lang="ja-JP" sz="1400" spc="-1" strike="noStrike">
                <a:solidFill>
                  <a:srgbClr val="000000"/>
                </a:solidFill>
                <a:latin typeface="ＭＳ Ｐゴシック"/>
              </a:rPr>
              <a:t>→</a:t>
            </a:r>
            <a:r>
              <a:rPr b="0" lang="ja-JP" sz="1400" spc="-1" strike="noStrike">
                <a:solidFill>
                  <a:srgbClr val="000000"/>
                </a:solidFill>
                <a:latin typeface="ＭＳ Ｐゴシック"/>
              </a:rPr>
              <a:t>各項目で１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より下記の表における肝障害度</a:t>
            </a:r>
            <a:r>
              <a:rPr b="0" lang="en-US" sz="1400" spc="-1" strike="noStrike">
                <a:solidFill>
                  <a:srgbClr val="000000"/>
                </a:solidFill>
                <a:latin typeface="ＭＳ Ｐゴシック"/>
              </a:rPr>
              <a:t>A</a:t>
            </a:r>
            <a:r>
              <a:rPr b="0" lang="ja-JP" sz="1400" spc="-1" strike="noStrike">
                <a:solidFill>
                  <a:srgbClr val="000000"/>
                </a:solidFill>
                <a:latin typeface="ＭＳ Ｐゴシック"/>
              </a:rPr>
              <a:t>に分類さ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肝予備能が肝切除術に耐えうるものと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拡大左葉切除術が選択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r>
              <a:rPr b="0" lang="ja-JP" sz="1400" spc="-1" strike="noStrike">
                <a:solidFill>
                  <a:srgbClr val="000000"/>
                </a:solidFill>
                <a:latin typeface="ＭＳ Ｐゴシック"/>
              </a:rPr>
              <a:t>に手術予定である。</a:t>
            </a:r>
            <a:endParaRPr b="0" lang="en-US" sz="1400" spc="-1" strike="noStrike">
              <a:solidFill>
                <a:srgbClr val="000000"/>
              </a:solidFill>
              <a:latin typeface="Arial"/>
            </a:endParaRPr>
          </a:p>
        </p:txBody>
      </p:sp>
      <p:pic>
        <p:nvPicPr>
          <p:cNvPr id="732" name="図 2" descr=""/>
          <p:cNvPicPr/>
          <p:nvPr/>
        </p:nvPicPr>
        <p:blipFill>
          <a:blip r:embed="rId1"/>
          <a:srcRect l="64176" t="27601" r="5113" b="22002"/>
          <a:stretch/>
        </p:blipFill>
        <p:spPr>
          <a:xfrm>
            <a:off x="4572000" y="3789360"/>
            <a:ext cx="4471920" cy="2449440"/>
          </a:xfrm>
          <a:prstGeom prst="rect">
            <a:avLst/>
          </a:prstGeom>
          <a:ln w="0">
            <a:noFill/>
          </a:ln>
        </p:spPr>
      </p:pic>
      <p:sp>
        <p:nvSpPr>
          <p:cNvPr id="733" name="直線コネクタ 4"/>
          <p:cNvSpPr/>
          <p:nvPr/>
        </p:nvSpPr>
        <p:spPr>
          <a:xfrm>
            <a:off x="4716360" y="6021360"/>
            <a:ext cx="2305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4" name="Picture 7" descr=""/>
          <p:cNvPicPr/>
          <p:nvPr/>
        </p:nvPicPr>
        <p:blipFill>
          <a:blip r:embed="rId2"/>
          <a:stretch/>
        </p:blipFill>
        <p:spPr>
          <a:xfrm>
            <a:off x="284040" y="2343240"/>
            <a:ext cx="3676680" cy="3678120"/>
          </a:xfrm>
          <a:prstGeom prst="rect">
            <a:avLst/>
          </a:prstGeom>
          <a:ln w="0">
            <a:noFill/>
          </a:ln>
        </p:spPr>
      </p:pic>
      <p:cxnSp>
        <p:nvCxnSpPr>
          <p:cNvPr id="735" name="直線矢印コネクタ 2"/>
          <p:cNvCxnSpPr/>
          <p:nvPr/>
        </p:nvCxnSpPr>
        <p:spPr>
          <a:xfrm flipH="1">
            <a:off x="2075040" y="3428640"/>
            <a:ext cx="576360" cy="144720"/>
          </a:xfrm>
          <a:prstGeom prst="straightConnector1">
            <a:avLst/>
          </a:prstGeom>
          <a:ln w="28440">
            <a:solidFill>
              <a:srgbClr val="ffff00"/>
            </a:solidFill>
            <a:miter/>
            <a:tailEnd len="med" type="triangle" w="med"/>
          </a:ln>
        </p:spPr>
      </p:cxnSp>
      <p:sp>
        <p:nvSpPr>
          <p:cNvPr id="736" name="楕円 1"/>
          <p:cNvSpPr/>
          <p:nvPr/>
        </p:nvSpPr>
        <p:spPr>
          <a:xfrm>
            <a:off x="6156360" y="4581360"/>
            <a:ext cx="360360" cy="21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楕円 9"/>
          <p:cNvSpPr/>
          <p:nvPr/>
        </p:nvSpPr>
        <p:spPr>
          <a:xfrm>
            <a:off x="6181560" y="4797360"/>
            <a:ext cx="47808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楕円 10"/>
          <p:cNvSpPr/>
          <p:nvPr/>
        </p:nvSpPr>
        <p:spPr>
          <a:xfrm>
            <a:off x="6156360" y="5041800"/>
            <a:ext cx="479520" cy="285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楕円 11"/>
          <p:cNvSpPr/>
          <p:nvPr/>
        </p:nvSpPr>
        <p:spPr>
          <a:xfrm>
            <a:off x="6167520" y="5327640"/>
            <a:ext cx="47952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楕円 13"/>
          <p:cNvSpPr/>
          <p:nvPr/>
        </p:nvSpPr>
        <p:spPr>
          <a:xfrm>
            <a:off x="6167520" y="5603760"/>
            <a:ext cx="468360" cy="241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06:36Z</dcterms:modified>
  <cp:revision>141</cp:revision>
  <dc:subject/>
  <dc:title>肝胆膵病態学総論</dc:title>
</cp:coreProperties>
</file>